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8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55C-B4BE-4864-8A80-6A34BE5A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797B-5742-4143-8EB4-E3CE4E6A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47D84-1F73-4940-A8E7-14089194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9D38F-BB48-4FBA-95C2-5C2373D6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68106-327D-46AF-A54F-DFEC37E0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EA13C-F519-477A-93DC-31E64315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077FB-1FDA-460E-9BD2-3FA9FDCD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4AC8C-F80D-44A8-8C20-0B6CD679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61BF1-A312-4EAC-96AA-F0628FC9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0826D-EAAD-4CFE-9FB9-2DC17559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E5FDF-9453-42CF-BFD0-65746EE1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F03FE-6410-4F31-9CC9-DA131CB8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9B7-8D7D-494F-BAB8-63B086FE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D5C22-9C00-4F42-8E32-110F7F06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E98DC-E916-44B0-B872-F6090810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70F24-CFE8-41A0-9D5F-5B735E7D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C6F7C-971A-41F1-8D9F-5D055407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D979D-72E7-4333-A6B1-9B2C5C6A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8B15A-C7DE-4165-AFF4-ECB366D3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50270-9EEB-4729-ACA9-A1CAB2B7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5F126-5875-43FA-9F24-564153BC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7DBD5-B308-443A-A760-53CF1541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D1371-23D4-439F-900F-BDA52414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456C-E7BE-4E3B-9EF5-1C4EAF6F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3231D-887F-4B1B-B3AA-AAE12DD0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1C106-1E94-46A4-BD6C-E090FDEC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A2906-1640-47E3-835F-37D43478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35A43-6951-40C1-8810-E7A66548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8052C-463B-4170-972B-31DA6EB3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BA3C6-CBAA-4E16-A7C6-E4CF2C6E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F8BD4-E9FF-48AC-B5B6-3F01C029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AAE7C-706B-43BF-AEAC-8513B8D8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16DA0-A460-44B8-B3A4-FB74FFBD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28F1A-F191-4BC6-80D5-8C111FBD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CBA6A-28D5-4CE9-AC56-0A73570A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4AD55-611D-451E-8DA5-C45E3099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5B74E-49C0-441F-BAAC-3B71469F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23FCA-8560-4B74-884C-0398C0E5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8FA8F-0C8F-43CB-9F17-BDE261AA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B1DCB-6286-4472-B9D7-6DACE06A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BCA14-2B3E-4856-9E30-3C6DC412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A3D80-FC7E-4D2C-A3A7-394AB8AA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8D385-EC45-4DA1-A8DF-61A0EDDB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F4023-6562-4227-9250-EE19E2FE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27D77-94A1-40AB-BD79-60B86F90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39174-37AF-4ADD-8FC6-3EF16483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29082-0003-4C05-99BA-DFCD6344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47228-749F-412B-A098-D409A7CF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43BA9-9DE7-447A-B5DF-67B55892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061D1-2834-4461-8C9F-0DC42FE8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6E689-AAAB-4DCB-B25F-95A44027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653DD-3ED5-4105-BDF0-4F3CA37C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25E82-7802-4491-91FE-AFF30265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91E9C-7839-410B-A664-7F32661D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B28F5-CD69-4CE1-A013-33B110D5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0D880-032A-41D4-9D8F-AA7415E1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DA13B-3AF8-4AA5-80B5-501B3B6F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84409-EDCE-49F7-B644-3BCC3D8F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7E5C9-2124-47B9-9141-6A319C41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BB17C-FE7D-428D-BBA7-8E39C93A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EB2B7-B32D-4530-A9F0-877434E8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AC56F-2980-4BF3-973A-59973F8B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0F448-650D-4714-9177-5A5D4DB2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FE0CC-A445-4579-95F9-7822930F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8615B-6EAC-4374-B203-D04A128F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5939B-17A0-4C1E-9462-FF063861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A5DEC-5DDA-4E31-A4D0-35BC947E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8D173-3BEE-413B-8B3A-988F2A49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D757A-6DE2-4125-8F66-981F27A1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7D284-4747-437B-A74D-36093715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2BF02-C2B1-4250-95B1-DB602C15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1AF42-C325-4CA4-8DD0-A3FE9E1A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F7DA3-146A-442D-9572-68AAEFCA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D2100-8AED-4D4D-8122-4005036A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3AB34-EE2F-43AE-942F-66909285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B028E-B686-47A8-81BB-59FF978E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096329-1655-4F2D-8A53-C588C7E1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8CE54F-F7F6-47BB-944D-910DD6CE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0A506A-C440-423E-B0E5-19150E6F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0B4F43-6693-4967-8DB0-A9A94765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3A8EF-6D9A-476C-A572-AA36AB2C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AC285-C4DE-4693-9CEC-6B997C91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D5DA3-988C-4074-92F9-894F2112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0D4BC-E76B-4116-8D09-7BCDE5F3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53B63B-CE48-4A98-85EA-A117208D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796A21-C0E6-408D-8852-7987E58E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42BD1E-F6CF-428D-B54F-EFE7230C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972292-427C-4374-AE97-BAF47DE2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4B19C6-6252-4590-90F1-AF3DB628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765B07-3AF6-44CA-9E0C-849E3583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B184F-3849-4D84-BE71-9910444F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01AF64-CA46-4BEB-8CD7-CA5DCF86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AE3CE9-BE70-48C8-9863-92EB7653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996472-8CDD-4B75-A831-C34DDB8B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009882-34B9-4C90-977F-B2D38646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8BC08A-7F96-404B-93A9-658D9CD9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33AAC8-B966-4261-996F-C0F7819B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05667D-7ECD-4162-B8B5-598E6C9E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44E9C1-329D-4F69-9F95-EE5917F4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E82DCA-908C-4D6B-8557-8C90E39D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68415A-281C-4B1B-AF2F-94145602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32A496-CDD0-4832-9155-BA5A8A52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86B0D-95F9-41A2-AB7B-1D6459CB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6EB84D-A185-468D-A8DC-0393521F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57B-74F0-449C-B5EF-5525F655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1C3E03-6F5C-4569-BE47-7CF8A564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00CA91-70AB-450A-A566-60DF0258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E6DB3A-676A-40B5-8649-9B43100D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18F582-BDA3-411A-B6D3-8D70AAA3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5EC1E0-B2C6-48EA-A3C3-03EBF660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A95D34-3FAA-4925-9130-7B4CB066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DCD7EB-542C-4622-BC9B-0264DB9A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06CC86-EFEA-4384-8915-659750C7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E2EE38-435F-407A-813F-D1186295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5DC103-120B-448F-8375-5BF02843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5663DA-8520-4F72-82B2-D0C2ACA9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E84003-5F4F-4341-BF33-E771180B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D16DB0-AED9-455B-B93E-4E9344F5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EE3075-7191-4D1E-9963-74320DA3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BEC1A5-B5B1-4FC9-8614-8B468D83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F508E4-7A32-4C44-98F2-D9D60F88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688CC2-829F-4935-8ECA-DB0C5052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28B729-B0A5-4747-B122-41C8BC57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C8883F-BDE3-46C2-AB0B-CA9B1CFD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9C0460-3BDA-494A-AE49-CCB0CF2B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580E2D-A255-4C81-B19E-35902132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475BE7-5252-4682-AF24-AD73DDE9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339F0A-DF3B-4179-8557-27D6288E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8D0BAF-04D2-4788-98F1-CB15867A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336441-6880-4FF4-85EB-256B8EE2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D4D943-810E-4EE9-9D88-E3745735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AAF31D-AA65-46E0-9D6F-E6163EAF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40E14B-0DBA-4030-B294-CA2B044F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865283-6D90-4B84-BC7D-77953CCD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9EAB67-689C-41BF-B8B2-670ED41C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788305-92F6-4928-967A-C6B3BA64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2BEED2-46AC-4C00-A4D2-46F2D4FC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0D2136-4017-4233-B17B-E709B51A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6D6E9F-C3D6-4105-A366-D11CEA05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EBC3A8-6001-431D-A068-91F828AF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73C5BE-4B88-4E89-86AB-462E0D9F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D42974-F3B7-4335-BBF9-A0968C1D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CFA4AF-1F54-4D72-BEAC-1008789B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460867-47A3-4865-B83C-8A36E17A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2A842D-15C7-450B-AFC1-4B3D0F73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2CAAF7-4446-4A91-BE1C-263D487A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B7D93F-BCFC-4F01-9CDF-88BD9CC0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5DD3A1-7B26-43FE-9B19-B00E8E76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4A9029-A5D8-4C34-B51D-E2CBDE88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E2C53D-BA8C-4333-A4F5-7C7C3820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10796B-4B68-4FF4-93A3-CF0D86D6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CF9AD7-418D-4630-87E9-1D71BB4A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5665DC-3BAE-4846-963C-E3FCE859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B9ACE9-CB84-4317-883F-47465A33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36045D-50D6-4F3C-AF4E-8B0D453E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BF2036-6664-4774-95A0-2996C788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BA730C-7649-472F-ADAD-B3BA0626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96C0E6-3087-425D-88CA-43E3A012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44498D-12BD-41A6-AA60-5583A66B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1BFB42-F46F-406F-A679-D8ED1AAB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3BD828-468B-4A0D-87A2-00FE4BD9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0911AD-C35B-44A4-AB35-06527648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51F055-B420-4457-9861-989EFD98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B386DF-DC9C-49EA-87A8-DD2665A8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D22F5B-9D03-4742-A0D9-FF7B3B03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9708F3-991D-421C-B58B-45575D7B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FA40A4-D95E-49CB-8E3B-87D252FA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0BF689-42C0-42EB-BBBD-3F43BC23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F5858B-CE25-42D2-A3E6-7F9EC71F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2B6627-ECA1-48ED-A0AA-0006F725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0559CE-DC10-4E38-883D-6A570392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4ED207-AEFC-406B-A19E-8D90EAD7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CE1C0B-5E7A-44B3-8860-1D6BEE76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6F7848-35F4-4595-97F7-01309090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201CDD-A496-4046-8543-642F5160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87122E-DE7D-4A7D-A34D-4A1553A7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3189B7-7276-4ABC-B289-D37B7BD1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ED5D01-10F9-498A-96A2-1BB2B344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488181-70D3-46C2-A63D-9290DD62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C0561B-401D-4D1C-ABEE-F26384E3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6D14D6-3441-4C56-BD82-D2248CA2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CBB474-3397-4CF3-8B5B-FB79660B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E7A5BB-5CE9-4ED5-BFB8-5914E80E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5E705F-76C6-432A-8495-88EA2EED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6142DC-5AB0-4C3F-89E7-E549F1F2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CCC36F-570C-4285-BAA8-7019B02E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797509-3FBD-43B4-9ADE-4067F2EC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2BE4AB-CB39-4A28-884A-34251CD2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CF2068-602A-4DBF-A3DE-95A240E7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57B13B-8597-409C-8D2D-66880FC2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8754B8-8051-49A7-A136-4E8DF3ED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3FBED7-5074-4691-9EC9-DAE0CB60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ABD36E-9D6F-4844-B52D-F8AD7989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E328A6-68A8-4A3E-A3BC-1C99EA99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8A6610-1185-4E0F-9445-927BA215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D17F18-7E10-4298-8E40-782A9A3D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F33F51-4392-4CFD-999A-442E5289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AD84EB-8F3F-4CB3-8AE3-D1ECEB7D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48EF1B-A0B4-42DE-A3EB-9229A6C4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B18C8F-ACF9-4F26-ABD2-DC434DEC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CA7E3F-31C2-49E0-B297-07D82C6C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DBBB01-9C6A-4213-A1C0-DA44C212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4D6901-B09C-4B0D-8513-309ADD2B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9465FF-B473-4D7D-8352-1924BB5D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BA1823-4AD8-424C-AE15-F0E880A8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573-F8F7-4978-B5E3-CBAB4F2D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69FEC7-BB53-4E6C-8755-CEE13F51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391F-DBD1-4C72-B182-81B15E9C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D33C-D734-475A-907B-ACEE5DBC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15FB-5FA9-4B17-BE6D-804190CF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826-58F9-4723-A14E-E49CF32C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DEC0-B933-4084-BC0C-11A82402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3104-AD39-4B6B-ACCC-37BF4999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DC0E-540C-4D00-B12E-7055F590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B8CA-910E-490F-BB9C-F536CFC3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C423-DC03-43CA-B5E1-5126D0AA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CA96-0CB8-4B89-BDD3-BD60F766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0FC1-25B5-4B67-931E-1CE47ED7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FBE4-A12E-407B-A16E-0B2160E0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53A4-AECC-4C67-B590-2337B414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0E98E-FB76-4225-90B4-57771DAE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78C6-7168-4007-AB08-67482F6E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764CD-15EC-4D2A-A169-E3312490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C5511-01C3-4001-B2E8-C220708B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02DAA-71E8-4BC5-A88D-AEDD0620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A0F5F-5E59-4FF6-8067-9726B840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E1968-8479-4CC8-81F8-7B96BA4A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610D9-B02A-4A94-923E-03DA330E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001A1-4B90-4221-B4DB-E9815D42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D289F-C3B7-4229-8572-87DDAA10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52208-C303-4BC4-87B1-5E6FAC6C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34AF8-945D-4395-A955-089810B5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F7F6-33DA-4A79-B974-F976750E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FB6B9-409D-482C-8737-093E1996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87037-AB8C-4340-9358-FCE142EB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EB8D4-0FCF-49D5-9064-5C549136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3F1E6-CAAC-420C-AE42-3B1F8A9F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AA415-AEB7-4CE8-B22B-36C3EBCA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41CFB-A427-4558-9BC7-D2D77D83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FA35D-040E-4343-BE55-B582F6F0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1ABA8-8B70-4F79-9972-9B63FAA1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4EC42-6CB9-4D56-9953-8F7CFACC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37644-7A13-4592-9220-0CC086A9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029-EB7A-4FCA-B71E-989C22D0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DFDF8-658F-41D9-89F6-7DE9EE0E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15C3B-043B-416B-A981-74ECE4C6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FA94D-EFE1-44C2-9731-00F9522E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A24F2-4CD2-4E67-B364-D16F7230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C0BC3-F230-4BDF-8DD4-E99948E1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51B85-761A-4568-8733-09B964AE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A5715-FDBA-4A58-B6EC-5258FB6D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190DE-881B-4C17-8C95-F9E2EB47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055D0-5EC3-4948-A97E-75AB61FA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771AF-AA1D-4E22-8307-72CDB2DB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25E-07C4-4247-A68B-5B87D241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CADA4-5E66-4EFC-B741-DF7E424E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47C2F-BFE4-4440-92E0-A43B2B7F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D6E24-0723-4D20-A602-7AA1E9F9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7F155-8B7B-4F12-B449-08D9E33D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9B46F-0252-42BB-AF4D-6D2CED49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E5A52-F491-4AE0-ACD6-A7C06A23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667BC-BFC8-4111-A720-80917F81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DB3FF-B174-4046-AEB6-489E894E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34AC0-29D2-4A0A-A4B9-DEB0C704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16F06-7370-4B26-B2A6-8DEC908A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DBF-4992-4821-A34C-D3567B3A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46552-B8CC-4082-A153-6425901F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0116A-F8D9-42AD-80BE-6CD87020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6B745-DD5F-4917-AB03-2F70F8C4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99353-2451-47B2-8E28-69EE40E4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9AB1E-00DB-4275-8BF5-E020A609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B19B5-CD20-4460-9535-51FE1E14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14DD2-7D44-4902-85C4-5E4ED115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CBF74-4F2B-47D9-8C83-29807811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58145-DE39-4909-95A9-7E91B4E2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884DC-B223-418C-AA25-F23F6246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6848-E5E9-465E-9ED0-8F8C43E65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dt" idx="22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23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4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A758-7D33-470F-AEDA-461D3AFF605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dt" idx="25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ftr" idx="26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27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16CA-A6BE-4DA1-8B5C-62DE70DD2FF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dt" idx="28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ftr" idx="29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30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4A91-5F24-4E26-9B99-1958D309DD9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dt" idx="3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ftr" idx="3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3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8814-6274-49ED-B5A7-CBAE22FD979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dt" idx="3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ftr" idx="3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3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5BF1-6C7B-4793-B70F-655D788B146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7C09-BA81-4CEF-A870-B1E89D728A4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B1ED-06B9-4656-8D02-E7B1B75F34D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4E3B-CC5D-4A0A-9AFA-2DBDEB6C2F9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dt" idx="4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9B58-4F69-41CC-98DE-3005E2B874C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dt" idx="4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901D-A548-479F-8C6B-CBD8DFFCF4C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dt" idx="5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AE5B-4F46-4767-9B78-8B40A32BE2A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dt" idx="5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EADB-CF54-4B4C-8EDA-0F589C09086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dt" idx="5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F273-581C-4870-B3C4-33B265D6C62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dt" idx="6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828B-C948-44BC-BD3E-D49F5721B4B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dt" idx="6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2084-331C-4F87-AB0B-3A36C7B7E48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dt" idx="6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923B-1C2C-4DA1-AC68-106329E2F4C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4105-B36F-4B80-8E77-92686070483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2F1A-FDBB-4111-AC36-6AB6349B76D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dt" idx="10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ftr" idx="11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12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4AD5-1F6C-4D3F-B950-BD8F6D50819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dt" idx="13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14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5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9CC3-9D70-4280-821A-6BAEE7491FE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dt" idx="16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ftr" idx="17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8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FC8D-1FF0-4EB9-8E9B-C27D15F23AA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dt" idx="19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ftr" idx="20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1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1AC4-ECBF-450C-BF4D-0FEEA3B017D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Box 6"/>
          <p:cNvSpPr/>
          <p:nvPr/>
        </p:nvSpPr>
        <p:spPr>
          <a:xfrm>
            <a:off x="304920" y="1143000"/>
            <a:ext cx="853416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UNIT ONE WHY ARE YOU SO HAPPY Lesson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--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现在进行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Text Box 2"/>
          <p:cNvSpPr/>
          <p:nvPr/>
        </p:nvSpPr>
        <p:spPr>
          <a:xfrm>
            <a:off x="533520" y="457200"/>
            <a:ext cx="861048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华文彩云"/>
              </a:rPr>
              <a:t>                  </a:t>
            </a:r>
            <a:r>
              <a:rPr b="1" lang="zh-CN" sz="4400" spc="-1" strike="noStrike">
                <a:solidFill>
                  <a:srgbClr val="6666ff"/>
                </a:solidFill>
                <a:latin typeface="Comic Sans MS"/>
                <a:ea typeface="华文彩云"/>
              </a:rPr>
              <a:t>训练集中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omic Sans MS"/>
                <a:ea typeface="华文彩云"/>
              </a:rPr>
              <a:t>    </a:t>
            </a:r>
            <a:r>
              <a:rPr b="1" lang="zh-CN" sz="3600" spc="-1" strike="noStrike">
                <a:solidFill>
                  <a:srgbClr val="6600cc"/>
                </a:solidFill>
                <a:latin typeface="Comic Sans MS"/>
                <a:ea typeface="隶书"/>
              </a:rPr>
              <a:t>写出下列动词的分词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________     sleep 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 ________   sit 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sten _________    make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ugh ________   lie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y ________     sing 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ut_________    write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Comic Sans MS"/>
                <a:ea typeface="隶书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3"/>
          <p:cNvSpPr/>
          <p:nvPr/>
        </p:nvSpPr>
        <p:spPr>
          <a:xfrm>
            <a:off x="1600200" y="1828800"/>
            <a:ext cx="701028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alking               sl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atching         sit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istening             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aughing          l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rying                sing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utting              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5" name="Group 16"/>
          <p:cNvGrpSpPr/>
          <p:nvPr/>
        </p:nvGrpSpPr>
        <p:grpSpPr>
          <a:xfrm>
            <a:off x="2362320" y="1447920"/>
            <a:ext cx="5257800" cy="685800"/>
            <a:chOff x="2362320" y="1447920"/>
            <a:chExt cx="5257800" cy="685800"/>
          </a:xfrm>
        </p:grpSpPr>
        <p:sp>
          <p:nvSpPr>
            <p:cNvPr id="1136" name="AutoShape 17"/>
            <p:cNvSpPr/>
            <p:nvPr/>
          </p:nvSpPr>
          <p:spPr>
            <a:xfrm>
              <a:off x="2362320" y="1524240"/>
              <a:ext cx="784080" cy="609480"/>
            </a:xfrm>
            <a:prstGeom prst="roundRect">
              <a:avLst>
                <a:gd name="adj" fmla="val 16667"/>
              </a:avLst>
            </a:prstGeom>
            <a:solidFill>
              <a:srgbClr val="ffff99">
                <a:alpha val="50000"/>
              </a:srgbClr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b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AutoShape 18"/>
            <p:cNvSpPr/>
            <p:nvPr/>
          </p:nvSpPr>
          <p:spPr>
            <a:xfrm>
              <a:off x="3429000" y="1447920"/>
              <a:ext cx="533520" cy="609480"/>
            </a:xfrm>
            <a:prstGeom prst="plus">
              <a:avLst>
                <a:gd name="adj" fmla="val 39167"/>
              </a:avLst>
            </a:prstGeom>
            <a:solidFill>
              <a:srgbClr val="ff9933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AutoShape 19"/>
            <p:cNvSpPr/>
            <p:nvPr/>
          </p:nvSpPr>
          <p:spPr>
            <a:xfrm>
              <a:off x="6019920" y="1524240"/>
              <a:ext cx="1600200" cy="6094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-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AutoShape 20"/>
            <p:cNvSpPr/>
            <p:nvPr/>
          </p:nvSpPr>
          <p:spPr>
            <a:xfrm>
              <a:off x="4191120" y="1524240"/>
              <a:ext cx="784080" cy="609480"/>
            </a:xfrm>
            <a:prstGeom prst="roundRect">
              <a:avLst>
                <a:gd name="adj" fmla="val 16667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n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AutoShape 21"/>
            <p:cNvSpPr/>
            <p:nvPr/>
          </p:nvSpPr>
          <p:spPr>
            <a:xfrm>
              <a:off x="5257800" y="1447920"/>
              <a:ext cx="533520" cy="609480"/>
            </a:xfrm>
            <a:prstGeom prst="plus">
              <a:avLst>
                <a:gd name="adj" fmla="val 39167"/>
              </a:avLst>
            </a:prstGeom>
            <a:solidFill>
              <a:srgbClr val="ff9933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Group 22"/>
          <p:cNvGrpSpPr/>
          <p:nvPr/>
        </p:nvGrpSpPr>
        <p:grpSpPr>
          <a:xfrm>
            <a:off x="1066680" y="2514600"/>
            <a:ext cx="8077320" cy="916920"/>
            <a:chOff x="1066680" y="2514600"/>
            <a:chExt cx="8077320" cy="916920"/>
          </a:xfrm>
        </p:grpSpPr>
        <p:sp>
          <p:nvSpPr>
            <p:cNvPr id="1142" name="Rectangle 23"/>
            <p:cNvSpPr/>
            <p:nvPr/>
          </p:nvSpPr>
          <p:spPr>
            <a:xfrm>
              <a:off x="1066680" y="2971800"/>
              <a:ext cx="7924680" cy="4572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24"/>
            <p:cNvSpPr/>
            <p:nvPr/>
          </p:nvSpPr>
          <p:spPr>
            <a:xfrm>
              <a:off x="1066680" y="2514600"/>
              <a:ext cx="7772400" cy="45720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25"/>
            <p:cNvSpPr/>
            <p:nvPr/>
          </p:nvSpPr>
          <p:spPr>
            <a:xfrm>
              <a:off x="1066680" y="25146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52388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Comic Sans MS"/>
                  <a:ea typeface="PMingLiU"/>
                </a:rPr>
                <a:t>主语</a:t>
              </a:r>
              <a:r>
                <a:rPr b="1" lang="zh-TW" sz="2400" spc="-1" strike="noStrike">
                  <a:solidFill>
                    <a:srgbClr val="333399"/>
                  </a:solidFill>
                  <a:latin typeface="Comic Sans MS"/>
                  <a:ea typeface="PMingLiU"/>
                </a:rPr>
                <a:t>	</a:t>
              </a:r>
              <a:r>
                <a:rPr b="1" lang="zh-TW" sz="2400" spc="-1" strike="noStrike">
                  <a:solidFill>
                    <a:srgbClr val="333399"/>
                  </a:solidFill>
                  <a:latin typeface="Comic Sans MS"/>
                  <a:ea typeface="PMingLiU"/>
                </a:rPr>
                <a:t>  </a:t>
              </a:r>
              <a:r>
                <a:rPr b="1" lang="en-US" sz="2400" spc="-1" strike="noStrike">
                  <a:solidFill>
                    <a:srgbClr val="333399"/>
                  </a:solidFill>
                  <a:latin typeface="Comic Sans MS"/>
                  <a:ea typeface="PMingLiU"/>
                </a:rPr>
                <a:t>be</a:t>
              </a:r>
              <a:r>
                <a:rPr b="1" lang="zh-CN" sz="2400" spc="-1" strike="noStrike">
                  <a:solidFill>
                    <a:srgbClr val="333399"/>
                  </a:solidFill>
                  <a:latin typeface="Comic Sans MS"/>
                  <a:ea typeface="PMingLiU"/>
                </a:rPr>
                <a:t>动词</a:t>
              </a:r>
              <a:r>
                <a:rPr b="1" lang="zh-TW" sz="2400" spc="-1" strike="noStrike">
                  <a:solidFill>
                    <a:srgbClr val="333399"/>
                  </a:solidFill>
                  <a:latin typeface="Comic Sans MS"/>
                  <a:ea typeface="PMingLiU"/>
                </a:rPr>
                <a:t> </a:t>
              </a:r>
              <a:r>
                <a:rPr b="1" lang="zh-TW" sz="2400" spc="-1" strike="noStrike">
                  <a:solidFill>
                    <a:srgbClr val="333399"/>
                  </a:solidFill>
                  <a:latin typeface="Comic Sans MS"/>
                  <a:ea typeface="PMingLiU"/>
                </a:rPr>
                <a:t>	</a:t>
              </a:r>
              <a:r>
                <a:rPr b="1" lang="zh-TW" sz="2400" spc="-1" strike="noStrike">
                  <a:solidFill>
                    <a:srgbClr val="333399"/>
                  </a:solidFill>
                  <a:latin typeface="Comic Sans MS"/>
                  <a:ea typeface="PMingLiU"/>
                </a:rPr>
                <a:t>     </a:t>
              </a:r>
              <a:r>
                <a:rPr b="1" lang="zh-CN" sz="2400" spc="-1" strike="noStrike">
                  <a:solidFill>
                    <a:srgbClr val="333399"/>
                  </a:solidFill>
                  <a:latin typeface="Comic Sans MS"/>
                  <a:ea typeface="PMingLiU"/>
                </a:rPr>
                <a:t>行为动词</a:t>
              </a:r>
              <a:r>
                <a:rPr b="1" lang="zh-TW" sz="2400" spc="-1" strike="noStrike">
                  <a:solidFill>
                    <a:srgbClr val="333399"/>
                  </a:solidFill>
                  <a:latin typeface="Comic Sans MS"/>
                  <a:ea typeface="PMingLiU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Comic Sans MS"/>
                  <a:ea typeface="PMingLiU"/>
                </a:rPr>
                <a:t>(+ing)</a:t>
              </a:r>
              <a:r>
                <a:rPr b="1" lang="en-US" sz="2400" spc="-1" strike="noStrike">
                  <a:solidFill>
                    <a:srgbClr val="ff0066"/>
                  </a:solidFill>
                  <a:latin typeface="Comic Sans MS"/>
                  <a:ea typeface="PMingLiU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26"/>
            <p:cNvSpPr/>
            <p:nvPr/>
          </p:nvSpPr>
          <p:spPr>
            <a:xfrm>
              <a:off x="1218960" y="3048120"/>
              <a:ext cx="86040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27"/>
            <p:cNvSpPr/>
            <p:nvPr/>
          </p:nvSpPr>
          <p:spPr>
            <a:xfrm>
              <a:off x="2946240" y="3048120"/>
              <a:ext cx="86040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 algn="ctr">
                <a:lnSpc>
                  <a:spcPct val="7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 Box 28"/>
            <p:cNvSpPr/>
            <p:nvPr/>
          </p:nvSpPr>
          <p:spPr>
            <a:xfrm>
              <a:off x="5105160" y="3048120"/>
              <a:ext cx="154620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5400" indent="-95400">
                <a:lnSpc>
                  <a:spcPct val="7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draw</a:t>
              </a:r>
              <a:r>
                <a:rPr b="1" lang="en-US" sz="2400" spc="-1" strike="noStrike">
                  <a:solidFill>
                    <a:srgbClr val="ff33cc"/>
                  </a:solidFill>
                  <a:latin typeface="Comic Sans MS"/>
                  <a:ea typeface="PMingLiU"/>
                </a:rPr>
                <a:t>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Text Box 29"/>
            <p:cNvSpPr/>
            <p:nvPr/>
          </p:nvSpPr>
          <p:spPr>
            <a:xfrm>
              <a:off x="7010280" y="3048120"/>
              <a:ext cx="190512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a pictur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30"/>
            <p:cNvSpPr/>
            <p:nvPr/>
          </p:nvSpPr>
          <p:spPr>
            <a:xfrm>
              <a:off x="4114800" y="29718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Comic Sans MS"/>
                  <a:ea typeface="PMingLiU"/>
                </a:rPr>
                <a:t>no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Rectangle 31"/>
          <p:cNvSpPr/>
          <p:nvPr/>
        </p:nvSpPr>
        <p:spPr>
          <a:xfrm>
            <a:off x="685800" y="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omic Sans MS"/>
              </a:rPr>
              <a:t>Present continuous tense </a:t>
            </a:r>
            <a:r>
              <a:rPr b="1" lang="zh-CN" sz="3600" spc="-1" strike="noStrike">
                <a:solidFill>
                  <a:srgbClr val="ff3399"/>
                </a:solidFill>
                <a:latin typeface="Comic Sans MS"/>
              </a:rPr>
              <a:t>现在进行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32"/>
          <p:cNvSpPr/>
          <p:nvPr/>
        </p:nvSpPr>
        <p:spPr>
          <a:xfrm>
            <a:off x="685800" y="685800"/>
            <a:ext cx="71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Comic Sans MS"/>
                <a:ea typeface="PMingLiU"/>
              </a:rPr>
              <a:t>Negative sentences </a:t>
            </a:r>
            <a:r>
              <a:rPr b="1" lang="zh-CN" sz="3600" spc="-1" strike="noStrike">
                <a:solidFill>
                  <a:srgbClr val="339966"/>
                </a:solidFill>
                <a:latin typeface="Comic Sans MS"/>
                <a:ea typeface="PMingLiU"/>
              </a:rPr>
              <a:t>否定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2" name="Group 33"/>
          <p:cNvGrpSpPr/>
          <p:nvPr/>
        </p:nvGrpSpPr>
        <p:grpSpPr>
          <a:xfrm>
            <a:off x="1066680" y="3429000"/>
            <a:ext cx="8077320" cy="1447920"/>
            <a:chOff x="1066680" y="3429000"/>
            <a:chExt cx="8077320" cy="1447920"/>
          </a:xfrm>
        </p:grpSpPr>
        <p:grpSp>
          <p:nvGrpSpPr>
            <p:cNvPr id="1153" name="Group 34"/>
            <p:cNvGrpSpPr/>
            <p:nvPr/>
          </p:nvGrpSpPr>
          <p:grpSpPr>
            <a:xfrm>
              <a:off x="1066680" y="3429000"/>
              <a:ext cx="8077320" cy="1447920"/>
              <a:chOff x="1066680" y="3429000"/>
              <a:chExt cx="8077320" cy="1447920"/>
            </a:xfrm>
          </p:grpSpPr>
          <p:sp>
            <p:nvSpPr>
              <p:cNvPr id="1154" name="Rectangle 35"/>
              <p:cNvSpPr/>
              <p:nvPr/>
            </p:nvSpPr>
            <p:spPr>
              <a:xfrm>
                <a:off x="1066680" y="3429000"/>
                <a:ext cx="7924680" cy="144792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Text Box 36"/>
              <p:cNvSpPr/>
              <p:nvPr/>
            </p:nvSpPr>
            <p:spPr>
              <a:xfrm>
                <a:off x="1199880" y="3587760"/>
                <a:ext cx="936720" cy="12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  <a:ea typeface="PMingLiU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  <a:ea typeface="PMingLiU"/>
                  </a:rPr>
                  <a:t>Sh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  <a:ea typeface="PMingLiU"/>
                  </a:rPr>
                  <a:t>I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Text Box 37"/>
              <p:cNvSpPr/>
              <p:nvPr/>
            </p:nvSpPr>
            <p:spPr>
              <a:xfrm>
                <a:off x="3124080" y="38098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  <a:ea typeface="PMingLiU"/>
                  </a:rPr>
                  <a:t>i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Text Box 38"/>
              <p:cNvSpPr/>
              <p:nvPr/>
            </p:nvSpPr>
            <p:spPr>
              <a:xfrm>
                <a:off x="5029200" y="4038480"/>
                <a:ext cx="1538280" cy="64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1463"/>
                  </a:spcBef>
                  <a:tabLst>
                    <a:tab algn="l" pos="0"/>
                    <a:tab algn="l" pos="190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600" spc="-1" strike="noStrike">
                    <a:solidFill>
                      <a:srgbClr val="000000"/>
                    </a:solidFill>
                    <a:latin typeface="Comic Sans MS"/>
                    <a:ea typeface="PMingLiU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  <a:ea typeface="PMingLiU"/>
                  </a:rPr>
                  <a:t>sleep</a:t>
                </a:r>
                <a:r>
                  <a:rPr b="1" lang="en-US" sz="2400" spc="-1" strike="noStrike">
                    <a:solidFill>
                      <a:srgbClr val="ff33cc"/>
                    </a:solidFill>
                    <a:latin typeface="Comic Sans MS"/>
                    <a:ea typeface="PMingLiU"/>
                  </a:rPr>
                  <a:t>ing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Comic Sans MS"/>
                    <a:ea typeface="PMingLiU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Text Box 39"/>
              <p:cNvSpPr/>
              <p:nvPr/>
            </p:nvSpPr>
            <p:spPr>
              <a:xfrm>
                <a:off x="6933960" y="4071960"/>
                <a:ext cx="2210040" cy="3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  <a:ea typeface="PMingLiU"/>
                  </a:rPr>
                  <a:t>in the room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Text Box 40"/>
              <p:cNvSpPr/>
              <p:nvPr/>
            </p:nvSpPr>
            <p:spPr>
              <a:xfrm>
                <a:off x="4114800" y="3809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Comic Sans MS"/>
                    <a:ea typeface="PMingLiU"/>
                  </a:rPr>
                  <a:t>no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0" name="Text Box 41"/>
            <p:cNvSpPr/>
            <p:nvPr/>
          </p:nvSpPr>
          <p:spPr>
            <a:xfrm>
              <a:off x="3352680" y="4191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Comic Sans MS"/>
                  <a:ea typeface="PMingLiU"/>
                </a:rPr>
                <a:t>(isn’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Group 42"/>
          <p:cNvGrpSpPr/>
          <p:nvPr/>
        </p:nvGrpSpPr>
        <p:grpSpPr>
          <a:xfrm>
            <a:off x="1066680" y="4876920"/>
            <a:ext cx="7924680" cy="1513440"/>
            <a:chOff x="1066680" y="4876920"/>
            <a:chExt cx="7924680" cy="1513440"/>
          </a:xfrm>
        </p:grpSpPr>
        <p:grpSp>
          <p:nvGrpSpPr>
            <p:cNvPr id="1162" name="Group 43"/>
            <p:cNvGrpSpPr/>
            <p:nvPr/>
          </p:nvGrpSpPr>
          <p:grpSpPr>
            <a:xfrm>
              <a:off x="1066680" y="4876920"/>
              <a:ext cx="7924680" cy="1513440"/>
              <a:chOff x="1066680" y="4876920"/>
              <a:chExt cx="7924680" cy="1513440"/>
            </a:xfrm>
          </p:grpSpPr>
          <p:sp>
            <p:nvSpPr>
              <p:cNvPr id="1163" name="Rectangle 44"/>
              <p:cNvSpPr/>
              <p:nvPr/>
            </p:nvSpPr>
            <p:spPr>
              <a:xfrm>
                <a:off x="1066680" y="4876920"/>
                <a:ext cx="7924680" cy="1447560"/>
              </a:xfrm>
              <a:prstGeom prst="rect">
                <a:avLst/>
              </a:prstGeom>
              <a:solidFill>
                <a:srgbClr val="ffcc99">
                  <a:alpha val="50000"/>
                </a:srgbClr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Text Box 45"/>
              <p:cNvSpPr/>
              <p:nvPr/>
            </p:nvSpPr>
            <p:spPr>
              <a:xfrm>
                <a:off x="1199880" y="5035320"/>
                <a:ext cx="936720" cy="12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  <a:ea typeface="PMingLiU"/>
                  </a:rPr>
                  <a:t>You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  <a:ea typeface="PMingLiU"/>
                  </a:rPr>
                  <a:t>W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7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  <a:ea typeface="PMingLiU"/>
                  </a:rPr>
                  <a:t>The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Text Box 46"/>
              <p:cNvSpPr/>
              <p:nvPr/>
            </p:nvSpPr>
            <p:spPr>
              <a:xfrm>
                <a:off x="3124080" y="5181480"/>
                <a:ext cx="106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  <a:ea typeface="PMingLiU"/>
                  </a:rPr>
                  <a:t>ar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Text Box 47"/>
              <p:cNvSpPr/>
              <p:nvPr/>
            </p:nvSpPr>
            <p:spPr>
              <a:xfrm>
                <a:off x="5029200" y="5486040"/>
                <a:ext cx="1766880" cy="90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70000"/>
                  </a:lnSpc>
                  <a:spcBef>
                    <a:spcPts val="1463"/>
                  </a:spcBef>
                  <a:tabLst>
                    <a:tab algn="l" pos="0"/>
                    <a:tab algn="l" pos="190440"/>
                    <a:tab algn="l" pos="1333440"/>
                    <a:tab algn="l" pos="2666880"/>
                    <a:tab algn="l" pos="4000680"/>
                    <a:tab algn="l" pos="5334120"/>
                    <a:tab algn="l" pos="6667560"/>
                    <a:tab algn="l" pos="8001000"/>
                    <a:tab algn="l" pos="9334440"/>
                    <a:tab algn="l" pos="10667880"/>
                  </a:tabLst>
                </a:pPr>
                <a:r>
                  <a:rPr b="1" lang="zh-TW" sz="2600" spc="-1" strike="noStrike">
                    <a:solidFill>
                      <a:srgbClr val="000000"/>
                    </a:solidFill>
                    <a:latin typeface="Comic Sans MS"/>
                    <a:ea typeface="PMingLiU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  <a:ea typeface="PMingLiU"/>
                  </a:rPr>
                  <a:t>watch</a:t>
                </a:r>
                <a:r>
                  <a:rPr b="1" lang="en-US" sz="2400" spc="-1" strike="noStrike">
                    <a:solidFill>
                      <a:srgbClr val="ff33cc"/>
                    </a:solidFill>
                    <a:latin typeface="Comic Sans MS"/>
                    <a:ea typeface="PMingLiU"/>
                  </a:rPr>
                  <a:t>ing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Comic Sans MS"/>
                    <a:ea typeface="PMingLiU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Text Box 48"/>
              <p:cNvSpPr/>
              <p:nvPr/>
            </p:nvSpPr>
            <p:spPr>
              <a:xfrm>
                <a:off x="7010280" y="5486040"/>
                <a:ext cx="1828800" cy="3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  <a:ea typeface="PMingLiU"/>
                  </a:rPr>
                  <a:t>a film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Text Box 49"/>
              <p:cNvSpPr/>
              <p:nvPr/>
            </p:nvSpPr>
            <p:spPr>
              <a:xfrm>
                <a:off x="4114800" y="51814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Comic Sans MS"/>
                    <a:ea typeface="PMingLiU"/>
                  </a:rPr>
                  <a:t>no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9" name="Text Box 50"/>
            <p:cNvSpPr/>
            <p:nvPr/>
          </p:nvSpPr>
          <p:spPr>
            <a:xfrm>
              <a:off x="3276360" y="56386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Comic Sans MS"/>
                  <a:ea typeface="PMingLiU"/>
                </a:rPr>
                <a:t>(aren’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2"/>
          <p:cNvGrpSpPr/>
          <p:nvPr/>
        </p:nvGrpSpPr>
        <p:grpSpPr>
          <a:xfrm>
            <a:off x="0" y="0"/>
            <a:ext cx="609480" cy="6858000"/>
            <a:chOff x="0" y="0"/>
            <a:chExt cx="609480" cy="6858000"/>
          </a:xfrm>
        </p:grpSpPr>
        <p:pic>
          <p:nvPicPr>
            <p:cNvPr id="1171" name="Picture 3" descr="bg_bu_l"/>
            <p:cNvPicPr/>
            <p:nvPr/>
          </p:nvPicPr>
          <p:blipFill>
            <a:blip r:embed="rId2"/>
            <a:srcRect l="0" t="14282" r="0" b="0"/>
            <a:stretch/>
          </p:blipFill>
          <p:spPr>
            <a:xfrm>
              <a:off x="0" y="0"/>
              <a:ext cx="60948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" descr="bg_bu_l"/>
            <p:cNvPicPr/>
            <p:nvPr/>
          </p:nvPicPr>
          <p:blipFill>
            <a:blip r:embed="rId3"/>
            <a:srcRect l="0" t="14282" r="0" b="0"/>
            <a:stretch/>
          </p:blipFill>
          <p:spPr>
            <a:xfrm>
              <a:off x="0" y="533520"/>
              <a:ext cx="60948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" name="Picture 5" descr="bg_bu_l"/>
            <p:cNvPicPr/>
            <p:nvPr/>
          </p:nvPicPr>
          <p:blipFill>
            <a:blip r:embed="rId4"/>
            <a:srcRect l="0" t="14282" r="0" b="0"/>
            <a:stretch/>
          </p:blipFill>
          <p:spPr>
            <a:xfrm>
              <a:off x="0" y="1066680"/>
              <a:ext cx="609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Picture 6" descr="bg_bu_l"/>
            <p:cNvPicPr/>
            <p:nvPr/>
          </p:nvPicPr>
          <p:blipFill>
            <a:blip r:embed="rId5"/>
            <a:srcRect l="0" t="14282" r="0" b="0"/>
            <a:stretch/>
          </p:blipFill>
          <p:spPr>
            <a:xfrm>
              <a:off x="0" y="1600200"/>
              <a:ext cx="60948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Picture 7" descr="bg_bu_l"/>
            <p:cNvPicPr/>
            <p:nvPr/>
          </p:nvPicPr>
          <p:blipFill>
            <a:blip r:embed="rId6"/>
            <a:srcRect l="0" t="14282" r="0" b="0"/>
            <a:stretch/>
          </p:blipFill>
          <p:spPr>
            <a:xfrm>
              <a:off x="0" y="2133720"/>
              <a:ext cx="60948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" name="Picture 8" descr="bg_bu_l"/>
            <p:cNvPicPr/>
            <p:nvPr/>
          </p:nvPicPr>
          <p:blipFill>
            <a:blip r:embed="rId7"/>
            <a:srcRect l="0" t="14282" r="0" b="0"/>
            <a:stretch/>
          </p:blipFill>
          <p:spPr>
            <a:xfrm>
              <a:off x="0" y="2666880"/>
              <a:ext cx="609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Picture 9" descr="bg_bu_l"/>
            <p:cNvPicPr/>
            <p:nvPr/>
          </p:nvPicPr>
          <p:blipFill>
            <a:blip r:embed="rId8"/>
            <a:srcRect l="0" t="14282" r="0" b="0"/>
            <a:stretch/>
          </p:blipFill>
          <p:spPr>
            <a:xfrm>
              <a:off x="0" y="3200400"/>
              <a:ext cx="60948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10" descr="bg_bu_l"/>
            <p:cNvPicPr/>
            <p:nvPr/>
          </p:nvPicPr>
          <p:blipFill>
            <a:blip r:embed="rId9"/>
            <a:srcRect l="0" t="14282" r="0" b="0"/>
            <a:stretch/>
          </p:blipFill>
          <p:spPr>
            <a:xfrm>
              <a:off x="0" y="3733920"/>
              <a:ext cx="60948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Picture 11" descr="bg_bu_l"/>
            <p:cNvPicPr/>
            <p:nvPr/>
          </p:nvPicPr>
          <p:blipFill>
            <a:blip r:embed="rId10"/>
            <a:srcRect l="0" t="14282" r="0" b="0"/>
            <a:stretch/>
          </p:blipFill>
          <p:spPr>
            <a:xfrm>
              <a:off x="0" y="4267080"/>
              <a:ext cx="609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0" name="Picture 12" descr="bg_bu_l"/>
            <p:cNvPicPr/>
            <p:nvPr/>
          </p:nvPicPr>
          <p:blipFill>
            <a:blip r:embed="rId11"/>
            <a:srcRect l="0" t="14282" r="0" b="0"/>
            <a:stretch/>
          </p:blipFill>
          <p:spPr>
            <a:xfrm>
              <a:off x="0" y="4800600"/>
              <a:ext cx="60948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1" name="Picture 13" descr="bg_bu_l"/>
            <p:cNvPicPr/>
            <p:nvPr/>
          </p:nvPicPr>
          <p:blipFill>
            <a:blip r:embed="rId12"/>
            <a:srcRect l="0" t="14282" r="0" b="0"/>
            <a:stretch/>
          </p:blipFill>
          <p:spPr>
            <a:xfrm>
              <a:off x="0" y="5334120"/>
              <a:ext cx="60948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2" name="Picture 14" descr="bg_bu_l"/>
            <p:cNvPicPr/>
            <p:nvPr/>
          </p:nvPicPr>
          <p:blipFill>
            <a:blip r:embed="rId13"/>
            <a:srcRect l="0" t="14282" r="0" b="0"/>
            <a:stretch/>
          </p:blipFill>
          <p:spPr>
            <a:xfrm>
              <a:off x="0" y="5867280"/>
              <a:ext cx="609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3" name="Picture 15" descr="bg_bu_l"/>
            <p:cNvPicPr/>
            <p:nvPr/>
          </p:nvPicPr>
          <p:blipFill>
            <a:blip r:embed="rId14"/>
            <a:srcRect l="0" t="14282" r="0" b="0"/>
            <a:stretch/>
          </p:blipFill>
          <p:spPr>
            <a:xfrm>
              <a:off x="0" y="6294600"/>
              <a:ext cx="609480" cy="56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4" name="Rectangle 16"/>
          <p:cNvSpPr/>
          <p:nvPr/>
        </p:nvSpPr>
        <p:spPr>
          <a:xfrm>
            <a:off x="685800" y="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omic Sans MS"/>
              </a:rPr>
              <a:t>Present continuous tense </a:t>
            </a:r>
            <a:r>
              <a:rPr b="1" lang="zh-CN" sz="3600" spc="-1" strike="noStrike">
                <a:solidFill>
                  <a:srgbClr val="ff3399"/>
                </a:solidFill>
                <a:latin typeface="Comic Sans MS"/>
              </a:rPr>
              <a:t>现在进行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7"/>
          <p:cNvSpPr/>
          <p:nvPr/>
        </p:nvSpPr>
        <p:spPr>
          <a:xfrm>
            <a:off x="685800" y="6858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PMingLiU"/>
              </a:rPr>
              <a:t>Questions 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PMingLiU"/>
              </a:rPr>
              <a:t>一般疑问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18"/>
          <p:cNvSpPr/>
          <p:nvPr/>
        </p:nvSpPr>
        <p:spPr>
          <a:xfrm>
            <a:off x="685800" y="1295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cc"/>
                </a:solidFill>
                <a:latin typeface="Monotype Sorts"/>
                <a:ea typeface="Monotype Sorts"/>
              </a:rPr>
              <a:t></a:t>
            </a:r>
            <a:r>
              <a:rPr b="0" lang="zh-TW" sz="3200" spc="-1" strike="noStrike">
                <a:solidFill>
                  <a:srgbClr val="ff33cc"/>
                </a:solidFill>
                <a:latin typeface="Times New Roman"/>
                <a:ea typeface="PMingLiU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将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动词放在句子开头成为一般疑问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19"/>
          <p:cNvSpPr/>
          <p:nvPr/>
        </p:nvSpPr>
        <p:spPr>
          <a:xfrm>
            <a:off x="1219320" y="35812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PMingLiU"/>
              </a:rPr>
              <a:t>Yes, she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PMingLiU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PMingLiU"/>
              </a:rPr>
              <a:t>. / No, she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PMingLiU"/>
              </a:rPr>
              <a:t>is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PMingLiU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20"/>
          <p:cNvSpPr/>
          <p:nvPr/>
        </p:nvSpPr>
        <p:spPr>
          <a:xfrm>
            <a:off x="4495680" y="54864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PMingLiU"/>
              </a:rPr>
              <a:t>Yes, they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PMingLiU"/>
              </a:rPr>
              <a:t>ar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PMingLiU"/>
              </a:rPr>
              <a:t>. / No, they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PMingLiU"/>
              </a:rPr>
              <a:t>are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PMingLiU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Group 21"/>
          <p:cNvGrpSpPr/>
          <p:nvPr/>
        </p:nvGrpSpPr>
        <p:grpSpPr>
          <a:xfrm>
            <a:off x="1219320" y="2438280"/>
            <a:ext cx="7467480" cy="1697040"/>
            <a:chOff x="1219320" y="2438280"/>
            <a:chExt cx="7467480" cy="1697040"/>
          </a:xfrm>
        </p:grpSpPr>
        <p:pic>
          <p:nvPicPr>
            <p:cNvPr id="1190" name="Picture 22" descr="E:\riding bicycle.jpg"/>
            <p:cNvPicPr/>
            <p:nvPr/>
          </p:nvPicPr>
          <p:blipFill>
            <a:blip r:embed="rId15"/>
            <a:stretch/>
          </p:blipFill>
          <p:spPr>
            <a:xfrm>
              <a:off x="6858000" y="2438280"/>
              <a:ext cx="1828800" cy="16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1" name="Text Box 23"/>
            <p:cNvSpPr/>
            <p:nvPr/>
          </p:nvSpPr>
          <p:spPr>
            <a:xfrm>
              <a:off x="1219320" y="2438280"/>
              <a:ext cx="518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Comic Sans MS"/>
                  <a:ea typeface="PMingLiU"/>
                </a:rPr>
                <a:t>Cherry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Comic Sans MS"/>
                  <a:ea typeface="PMingLiU"/>
                </a:rPr>
                <a:t>is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Comic Sans MS"/>
                  <a:ea typeface="PMingLiU"/>
                </a:rPr>
                <a:t>riding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a bicycl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Group 24"/>
          <p:cNvGrpSpPr/>
          <p:nvPr/>
        </p:nvGrpSpPr>
        <p:grpSpPr>
          <a:xfrm>
            <a:off x="1219320" y="2895480"/>
            <a:ext cx="5181480" cy="672840"/>
            <a:chOff x="1219320" y="2895480"/>
            <a:chExt cx="5181480" cy="672840"/>
          </a:xfrm>
        </p:grpSpPr>
        <p:sp>
          <p:nvSpPr>
            <p:cNvPr id="1193" name="Text Box 25"/>
            <p:cNvSpPr/>
            <p:nvPr/>
          </p:nvSpPr>
          <p:spPr>
            <a:xfrm>
              <a:off x="1219320" y="3047760"/>
              <a:ext cx="518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Comic Sans MS"/>
                  <a:ea typeface="PMingLiU"/>
                </a:rPr>
                <a:t>Is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008000"/>
                  </a:solidFill>
                  <a:latin typeface="Comic Sans MS"/>
                  <a:ea typeface="PMingLiU"/>
                </a:rPr>
                <a:t>Cherry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Comic Sans MS"/>
                  <a:ea typeface="PMingLiU"/>
                </a:rPr>
                <a:t>riding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a bicycle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Line 26"/>
            <p:cNvSpPr/>
            <p:nvPr/>
          </p:nvSpPr>
          <p:spPr>
            <a:xfrm>
              <a:off x="1828800" y="2895480"/>
              <a:ext cx="6858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Line 27"/>
            <p:cNvSpPr/>
            <p:nvPr/>
          </p:nvSpPr>
          <p:spPr>
            <a:xfrm flipH="1">
              <a:off x="1524240" y="2895480"/>
              <a:ext cx="12189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Group 28"/>
          <p:cNvGrpSpPr/>
          <p:nvPr/>
        </p:nvGrpSpPr>
        <p:grpSpPr>
          <a:xfrm>
            <a:off x="1143000" y="4267080"/>
            <a:ext cx="8001000" cy="2349360"/>
            <a:chOff x="1143000" y="4267080"/>
            <a:chExt cx="8001000" cy="2349360"/>
          </a:xfrm>
        </p:grpSpPr>
        <p:pic>
          <p:nvPicPr>
            <p:cNvPr id="1197" name="Picture 29" descr="E:\couple cooking dinner.jpg"/>
            <p:cNvPicPr/>
            <p:nvPr/>
          </p:nvPicPr>
          <p:blipFill>
            <a:blip r:embed="rId16"/>
            <a:stretch/>
          </p:blipFill>
          <p:spPr>
            <a:xfrm>
              <a:off x="1143000" y="4267080"/>
              <a:ext cx="282240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8" name="Text Box 30"/>
            <p:cNvSpPr/>
            <p:nvPr/>
          </p:nvSpPr>
          <p:spPr>
            <a:xfrm>
              <a:off x="4419720" y="441936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Comic Sans MS"/>
                  <a:ea typeface="PMingLiU"/>
                </a:rPr>
                <a:t>They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Comic Sans MS"/>
                  <a:ea typeface="PMingLiU"/>
                </a:rPr>
                <a:t>are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Comic Sans MS"/>
                  <a:ea typeface="PMingLiU"/>
                </a:rPr>
                <a:t>cooking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Group 31"/>
          <p:cNvGrpSpPr/>
          <p:nvPr/>
        </p:nvGrpSpPr>
        <p:grpSpPr>
          <a:xfrm>
            <a:off x="4419720" y="4876920"/>
            <a:ext cx="4724280" cy="596520"/>
            <a:chOff x="4419720" y="4876920"/>
            <a:chExt cx="4724280" cy="596520"/>
          </a:xfrm>
        </p:grpSpPr>
        <p:sp>
          <p:nvSpPr>
            <p:cNvPr id="1200" name="Text Box 32"/>
            <p:cNvSpPr/>
            <p:nvPr/>
          </p:nvSpPr>
          <p:spPr>
            <a:xfrm>
              <a:off x="4419720" y="495288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Comic Sans MS"/>
                  <a:ea typeface="PMingLiU"/>
                </a:rPr>
                <a:t>Are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008000"/>
                  </a:solidFill>
                  <a:latin typeface="Comic Sans MS"/>
                  <a:ea typeface="PMingLiU"/>
                </a:rPr>
                <a:t>they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Comic Sans MS"/>
                  <a:ea typeface="PMingLiU"/>
                </a:rPr>
                <a:t>cooking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33"/>
            <p:cNvSpPr/>
            <p:nvPr/>
          </p:nvSpPr>
          <p:spPr>
            <a:xfrm>
              <a:off x="4876920" y="4876920"/>
              <a:ext cx="83808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Line 34"/>
            <p:cNvSpPr/>
            <p:nvPr/>
          </p:nvSpPr>
          <p:spPr>
            <a:xfrm flipH="1">
              <a:off x="4876920" y="4876920"/>
              <a:ext cx="914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3" name="Group 2"/>
          <p:cNvGrpSpPr/>
          <p:nvPr/>
        </p:nvGrpSpPr>
        <p:grpSpPr>
          <a:xfrm>
            <a:off x="0" y="0"/>
            <a:ext cx="609480" cy="6858000"/>
            <a:chOff x="0" y="0"/>
            <a:chExt cx="609480" cy="6858000"/>
          </a:xfrm>
        </p:grpSpPr>
        <p:pic>
          <p:nvPicPr>
            <p:cNvPr id="1204" name="Picture 3" descr="bg_bu_l"/>
            <p:cNvPicPr/>
            <p:nvPr/>
          </p:nvPicPr>
          <p:blipFill>
            <a:blip r:embed="rId2"/>
            <a:srcRect l="0" t="14282" r="0" b="0"/>
            <a:stretch/>
          </p:blipFill>
          <p:spPr>
            <a:xfrm>
              <a:off x="0" y="0"/>
              <a:ext cx="60948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Picture 4" descr="bg_bu_l"/>
            <p:cNvPicPr/>
            <p:nvPr/>
          </p:nvPicPr>
          <p:blipFill>
            <a:blip r:embed="rId3"/>
            <a:srcRect l="0" t="14282" r="0" b="0"/>
            <a:stretch/>
          </p:blipFill>
          <p:spPr>
            <a:xfrm>
              <a:off x="0" y="533520"/>
              <a:ext cx="60948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Picture 5" descr="bg_bu_l"/>
            <p:cNvPicPr/>
            <p:nvPr/>
          </p:nvPicPr>
          <p:blipFill>
            <a:blip r:embed="rId4"/>
            <a:srcRect l="0" t="14282" r="0" b="0"/>
            <a:stretch/>
          </p:blipFill>
          <p:spPr>
            <a:xfrm>
              <a:off x="0" y="1066680"/>
              <a:ext cx="609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7" name="Picture 6" descr="bg_bu_l"/>
            <p:cNvPicPr/>
            <p:nvPr/>
          </p:nvPicPr>
          <p:blipFill>
            <a:blip r:embed="rId5"/>
            <a:srcRect l="0" t="14282" r="0" b="0"/>
            <a:stretch/>
          </p:blipFill>
          <p:spPr>
            <a:xfrm>
              <a:off x="0" y="1600200"/>
              <a:ext cx="60948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7" descr="bg_bu_l"/>
            <p:cNvPicPr/>
            <p:nvPr/>
          </p:nvPicPr>
          <p:blipFill>
            <a:blip r:embed="rId6"/>
            <a:srcRect l="0" t="14282" r="0" b="0"/>
            <a:stretch/>
          </p:blipFill>
          <p:spPr>
            <a:xfrm>
              <a:off x="0" y="2133720"/>
              <a:ext cx="60948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Picture 8" descr="bg_bu_l"/>
            <p:cNvPicPr/>
            <p:nvPr/>
          </p:nvPicPr>
          <p:blipFill>
            <a:blip r:embed="rId7"/>
            <a:srcRect l="0" t="14282" r="0" b="0"/>
            <a:stretch/>
          </p:blipFill>
          <p:spPr>
            <a:xfrm>
              <a:off x="0" y="2666880"/>
              <a:ext cx="609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0" name="Picture 9" descr="bg_bu_l"/>
            <p:cNvPicPr/>
            <p:nvPr/>
          </p:nvPicPr>
          <p:blipFill>
            <a:blip r:embed="rId8"/>
            <a:srcRect l="0" t="14282" r="0" b="0"/>
            <a:stretch/>
          </p:blipFill>
          <p:spPr>
            <a:xfrm>
              <a:off x="0" y="3200400"/>
              <a:ext cx="60948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1" name="Picture 10" descr="bg_bu_l"/>
            <p:cNvPicPr/>
            <p:nvPr/>
          </p:nvPicPr>
          <p:blipFill>
            <a:blip r:embed="rId9"/>
            <a:srcRect l="0" t="14282" r="0" b="0"/>
            <a:stretch/>
          </p:blipFill>
          <p:spPr>
            <a:xfrm>
              <a:off x="0" y="3733920"/>
              <a:ext cx="60948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2" name="Picture 11" descr="bg_bu_l"/>
            <p:cNvPicPr/>
            <p:nvPr/>
          </p:nvPicPr>
          <p:blipFill>
            <a:blip r:embed="rId10"/>
            <a:srcRect l="0" t="14282" r="0" b="0"/>
            <a:stretch/>
          </p:blipFill>
          <p:spPr>
            <a:xfrm>
              <a:off x="0" y="4267080"/>
              <a:ext cx="609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3" name="Picture 12" descr="bg_bu_l"/>
            <p:cNvPicPr/>
            <p:nvPr/>
          </p:nvPicPr>
          <p:blipFill>
            <a:blip r:embed="rId11"/>
            <a:srcRect l="0" t="14282" r="0" b="0"/>
            <a:stretch/>
          </p:blipFill>
          <p:spPr>
            <a:xfrm>
              <a:off x="0" y="4800600"/>
              <a:ext cx="60948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4" name="Picture 13" descr="bg_bu_l"/>
            <p:cNvPicPr/>
            <p:nvPr/>
          </p:nvPicPr>
          <p:blipFill>
            <a:blip r:embed="rId12"/>
            <a:srcRect l="0" t="14282" r="0" b="0"/>
            <a:stretch/>
          </p:blipFill>
          <p:spPr>
            <a:xfrm>
              <a:off x="0" y="5334120"/>
              <a:ext cx="60948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5" name="Picture 14" descr="bg_bu_l"/>
            <p:cNvPicPr/>
            <p:nvPr/>
          </p:nvPicPr>
          <p:blipFill>
            <a:blip r:embed="rId13"/>
            <a:srcRect l="0" t="14282" r="0" b="0"/>
            <a:stretch/>
          </p:blipFill>
          <p:spPr>
            <a:xfrm>
              <a:off x="0" y="5867280"/>
              <a:ext cx="609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6" name="Picture 15" descr="bg_bu_l"/>
            <p:cNvPicPr/>
            <p:nvPr/>
          </p:nvPicPr>
          <p:blipFill>
            <a:blip r:embed="rId14"/>
            <a:srcRect l="0" t="14282" r="0" b="0"/>
            <a:stretch/>
          </p:blipFill>
          <p:spPr>
            <a:xfrm>
              <a:off x="0" y="6294600"/>
              <a:ext cx="609480" cy="56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7" name="Rectangle 16"/>
          <p:cNvSpPr/>
          <p:nvPr/>
        </p:nvSpPr>
        <p:spPr>
          <a:xfrm>
            <a:off x="685800" y="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omic Sans MS"/>
              </a:rPr>
              <a:t>Present continuous tense </a:t>
            </a:r>
            <a:r>
              <a:rPr b="1" lang="zh-CN" sz="3600" spc="-1" strike="noStrike">
                <a:solidFill>
                  <a:srgbClr val="ff3399"/>
                </a:solidFill>
                <a:latin typeface="Comic Sans MS"/>
              </a:rPr>
              <a:t>现在进行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17"/>
          <p:cNvSpPr/>
          <p:nvPr/>
        </p:nvSpPr>
        <p:spPr>
          <a:xfrm>
            <a:off x="685800" y="6858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PMingLiU"/>
              </a:rPr>
              <a:t>Questions </a:t>
            </a:r>
            <a:r>
              <a:rPr b="1" lang="zh-CN" sz="3600" spc="-1" strike="noStrike">
                <a:solidFill>
                  <a:srgbClr val="ff6600"/>
                </a:solidFill>
                <a:latin typeface="Comic Sans MS"/>
                <a:ea typeface="PMingLiU"/>
              </a:rPr>
              <a:t>特殊疑问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18"/>
          <p:cNvSpPr/>
          <p:nvPr/>
        </p:nvSpPr>
        <p:spPr>
          <a:xfrm>
            <a:off x="685800" y="15238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cc"/>
                </a:solidFill>
                <a:latin typeface="Monotype Sorts"/>
                <a:ea typeface="Monotype Sorts"/>
              </a:rPr>
              <a:t></a:t>
            </a:r>
            <a:r>
              <a:rPr b="0" lang="zh-TW" sz="3200" spc="-1" strike="noStrike">
                <a:solidFill>
                  <a:srgbClr val="ff33cc"/>
                </a:solidFill>
                <a:latin typeface="Times New Roman"/>
                <a:ea typeface="PMingLiU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PMingLiU"/>
              </a:rPr>
              <a:t>Questions with question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0" name="Group 19"/>
          <p:cNvGrpSpPr/>
          <p:nvPr/>
        </p:nvGrpSpPr>
        <p:grpSpPr>
          <a:xfrm>
            <a:off x="1066680" y="2590920"/>
            <a:ext cx="8915400" cy="2543040"/>
            <a:chOff x="1066680" y="2590920"/>
            <a:chExt cx="8915400" cy="2543040"/>
          </a:xfrm>
        </p:grpSpPr>
        <p:sp>
          <p:nvSpPr>
            <p:cNvPr id="1221" name="Text Box 20"/>
            <p:cNvSpPr/>
            <p:nvPr/>
          </p:nvSpPr>
          <p:spPr>
            <a:xfrm>
              <a:off x="2286000" y="2667240"/>
              <a:ext cx="7696080" cy="24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9933ff"/>
                  </a:solidFill>
                  <a:latin typeface="Wingdings"/>
                  <a:ea typeface="Wingdings"/>
                </a:rPr>
                <a:t></a:t>
              </a:r>
              <a:r>
                <a:rPr b="1" lang="zh-TW" sz="2800" spc="-1" strike="noStrike">
                  <a:solidFill>
                    <a:srgbClr val="9933ff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ff66cc"/>
                  </a:solidFill>
                  <a:latin typeface="Comic Sans MS"/>
                  <a:ea typeface="PMingLiU"/>
                </a:rPr>
                <a:t>What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Comic Sans MS"/>
                  <a:ea typeface="PMingLiU"/>
                </a:rPr>
                <a:t>are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008000"/>
                  </a:solidFill>
                  <a:latin typeface="Comic Sans MS"/>
                  <a:ea typeface="PMingLiU"/>
                </a:rPr>
                <a:t>you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Comic Sans MS"/>
                  <a:ea typeface="PMingLiU"/>
                </a:rPr>
                <a:t>doing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ff"/>
                  </a:solidFill>
                  <a:latin typeface="Wingdings"/>
                  <a:ea typeface="Wingdings"/>
                </a:rPr>
                <a:t>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ff66cc"/>
                  </a:solidFill>
                  <a:latin typeface="Comic Sans MS"/>
                  <a:ea typeface="PMingLiU"/>
                </a:rPr>
                <a:t>Why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Comic Sans MS"/>
                  <a:ea typeface="PMingLiU"/>
                </a:rPr>
                <a:t>is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008000"/>
                  </a:solidFill>
                  <a:latin typeface="Comic Sans MS"/>
                  <a:ea typeface="PMingLiU"/>
                </a:rPr>
                <a:t>the baby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Comic Sans MS"/>
                  <a:ea typeface="PMingLiU"/>
                </a:rPr>
                <a:t>crying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ff"/>
                  </a:solidFill>
                  <a:latin typeface="Wingdings"/>
                  <a:ea typeface="Wingdings"/>
                </a:rPr>
                <a:t>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ff66cc"/>
                  </a:solidFill>
                  <a:latin typeface="Comic Sans MS"/>
                  <a:ea typeface="PMingLiU"/>
                </a:rPr>
                <a:t>When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Comic Sans MS"/>
                  <a:ea typeface="PMingLiU"/>
                </a:rPr>
                <a:t>are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008000"/>
                  </a:solidFill>
                  <a:latin typeface="Comic Sans MS"/>
                  <a:ea typeface="PMingLiU"/>
                </a:rPr>
                <a:t>the children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Comic Sans MS"/>
                  <a:ea typeface="PMingLiU"/>
                </a:rPr>
                <a:t>leaving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ff"/>
                  </a:solidFill>
                  <a:latin typeface="Wingdings"/>
                  <a:ea typeface="Wingdings"/>
                </a:rPr>
                <a:t>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ff66cc"/>
                  </a:solidFill>
                  <a:latin typeface="Comic Sans MS"/>
                  <a:ea typeface="PMingLiU"/>
                </a:rPr>
                <a:t>Where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Comic Sans MS"/>
                  <a:ea typeface="PMingLiU"/>
                </a:rPr>
                <a:t>are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008000"/>
                  </a:solidFill>
                  <a:latin typeface="Comic Sans MS"/>
                  <a:ea typeface="PMingLiU"/>
                </a:rPr>
                <a:t>you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Comic Sans MS"/>
                  <a:ea typeface="PMingLiU"/>
                </a:rPr>
                <a:t>going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 Box 21"/>
            <p:cNvSpPr/>
            <p:nvPr/>
          </p:nvSpPr>
          <p:spPr>
            <a:xfrm>
              <a:off x="1066680" y="259092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e.g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4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2"/>
          <p:cNvSpPr/>
          <p:nvPr/>
        </p:nvSpPr>
        <p:spPr>
          <a:xfrm>
            <a:off x="1985400" y="228600"/>
            <a:ext cx="48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常与现在进行时连用的时间状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3"/>
          <p:cNvSpPr/>
          <p:nvPr/>
        </p:nvSpPr>
        <p:spPr>
          <a:xfrm>
            <a:off x="474120" y="914400"/>
            <a:ext cx="21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now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现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4"/>
          <p:cNvSpPr/>
          <p:nvPr/>
        </p:nvSpPr>
        <p:spPr>
          <a:xfrm>
            <a:off x="2994840" y="914400"/>
            <a:ext cx="340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right now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现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5"/>
          <p:cNvSpPr/>
          <p:nvPr/>
        </p:nvSpPr>
        <p:spPr>
          <a:xfrm>
            <a:off x="2180880" y="1676520"/>
            <a:ext cx="430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at the momen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现在、此时此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6"/>
          <p:cNvSpPr/>
          <p:nvPr/>
        </p:nvSpPr>
        <p:spPr>
          <a:xfrm>
            <a:off x="152280" y="251460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前面有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look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listen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s …(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等词时，也用进行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7"/>
          <p:cNvSpPr/>
          <p:nvPr/>
        </p:nvSpPr>
        <p:spPr>
          <a:xfrm>
            <a:off x="152280" y="3886200"/>
            <a:ext cx="885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Look! The boys ________ football over t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8"/>
          <p:cNvSpPr/>
          <p:nvPr/>
        </p:nvSpPr>
        <p:spPr>
          <a:xfrm>
            <a:off x="4052880" y="3870360"/>
            <a:ext cx="29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are pla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9"/>
          <p:cNvSpPr/>
          <p:nvPr/>
        </p:nvSpPr>
        <p:spPr>
          <a:xfrm>
            <a:off x="136440" y="5186520"/>
            <a:ext cx="900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s 7a.m.. He _______ to schoo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"/>
          <p:cNvSpPr/>
          <p:nvPr/>
        </p:nvSpPr>
        <p:spPr>
          <a:xfrm>
            <a:off x="3591360" y="5105520"/>
            <a:ext cx="21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is g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2"/>
          <p:cNvSpPr/>
          <p:nvPr/>
        </p:nvSpPr>
        <p:spPr>
          <a:xfrm>
            <a:off x="152280" y="871560"/>
            <a:ext cx="89917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Look, Mr. Wu _________ ( play ) footb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Where is Li Lei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 He _________ ( water) trees in the gard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. The baby _________ ( sleep 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3"/>
          <p:cNvSpPr/>
          <p:nvPr/>
        </p:nvSpPr>
        <p:spPr>
          <a:xfrm>
            <a:off x="1467720" y="152280"/>
            <a:ext cx="379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用动词现在进行时态填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4"/>
          <p:cNvSpPr/>
          <p:nvPr/>
        </p:nvSpPr>
        <p:spPr>
          <a:xfrm>
            <a:off x="3962520" y="106668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is pla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5"/>
          <p:cNvSpPr/>
          <p:nvPr/>
        </p:nvSpPr>
        <p:spPr>
          <a:xfrm>
            <a:off x="1600200" y="38098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is wat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6"/>
          <p:cNvSpPr/>
          <p:nvPr/>
        </p:nvSpPr>
        <p:spPr>
          <a:xfrm>
            <a:off x="2895480" y="56386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is slee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2"/>
          <p:cNvSpPr/>
          <p:nvPr/>
        </p:nvSpPr>
        <p:spPr>
          <a:xfrm>
            <a:off x="304920" y="457200"/>
            <a:ext cx="86868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. Look! A dog _________ (run) after a ca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5. The Green family ___________ (have) lunch n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6. Now I ____________ (study) at a new s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7. Who __________ (knock) at the do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8. The boys _____________(swim) in the river n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3"/>
          <p:cNvSpPr/>
          <p:nvPr/>
        </p:nvSpPr>
        <p:spPr>
          <a:xfrm>
            <a:off x="3886200" y="457200"/>
            <a:ext cx="274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is ru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4"/>
          <p:cNvSpPr/>
          <p:nvPr/>
        </p:nvSpPr>
        <p:spPr>
          <a:xfrm>
            <a:off x="5257800" y="160020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are h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5"/>
          <p:cNvSpPr/>
          <p:nvPr/>
        </p:nvSpPr>
        <p:spPr>
          <a:xfrm>
            <a:off x="2438280" y="28954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am stud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6"/>
          <p:cNvSpPr/>
          <p:nvPr/>
        </p:nvSpPr>
        <p:spPr>
          <a:xfrm>
            <a:off x="2133720" y="4038480"/>
            <a:ext cx="303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is kno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7"/>
          <p:cNvSpPr/>
          <p:nvPr/>
        </p:nvSpPr>
        <p:spPr>
          <a:xfrm>
            <a:off x="3276720" y="53341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are swi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WordArt 2"/>
          <p:cNvSpPr txBox="1"/>
          <p:nvPr/>
        </p:nvSpPr>
        <p:spPr>
          <a:xfrm>
            <a:off x="1600200" y="2133720"/>
            <a:ext cx="5943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07070"/>
                    </a:gs>
                    <a:gs pos="100000">
                      <a:srgbClr val="ffffff"/>
                    </a:gs>
                  </a:gsLst>
                  <a:lin ang="18900000"/>
                </a:gradFill>
                <a:latin typeface="宋体"/>
              </a:rPr>
              <a:t>Thank you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707070"/>
                  </a:gs>
                  <a:gs pos="100000">
                    <a:srgbClr val="ffffff"/>
                  </a:gs>
                </a:gsLst>
                <a:lin ang="189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Text Box 2"/>
          <p:cNvSpPr/>
          <p:nvPr/>
        </p:nvSpPr>
        <p:spPr>
          <a:xfrm>
            <a:off x="1752480" y="501480"/>
            <a:ext cx="541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ff0000"/>
                </a:solidFill>
                <a:uFillTx/>
                <a:latin typeface="Arial"/>
                <a:ea typeface="华文彩云"/>
              </a:rPr>
              <a:t>现在进行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3"/>
          <p:cNvSpPr/>
          <p:nvPr/>
        </p:nvSpPr>
        <p:spPr>
          <a:xfrm>
            <a:off x="304920" y="24382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主语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+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am/is/are 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 +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doing (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动词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+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4"/>
          <p:cNvSpPr/>
          <p:nvPr/>
        </p:nvSpPr>
        <p:spPr>
          <a:xfrm>
            <a:off x="457200" y="44038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表示某人</a:t>
            </a: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正在</a:t>
            </a:r>
            <a:r>
              <a:rPr b="1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做某事的时候用现在进行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Picture 5" descr="019"/>
          <p:cNvPicPr/>
          <p:nvPr/>
        </p:nvPicPr>
        <p:blipFill>
          <a:blip r:embed="rId2"/>
          <a:stretch/>
        </p:blipFill>
        <p:spPr>
          <a:xfrm>
            <a:off x="0" y="604980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6" descr="019"/>
          <p:cNvPicPr/>
          <p:nvPr/>
        </p:nvPicPr>
        <p:blipFill>
          <a:blip r:embed="rId3"/>
          <a:stretch/>
        </p:blipFill>
        <p:spPr>
          <a:xfrm rot="10800000">
            <a:off x="0" y="2952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979" name="Text Box 7"/>
          <p:cNvSpPr/>
          <p:nvPr/>
        </p:nvSpPr>
        <p:spPr>
          <a:xfrm>
            <a:off x="304920" y="167652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现在进行时怎么构成</a:t>
            </a:r>
            <a:r>
              <a:rPr b="1" lang="en-US" sz="4000" spc="-1" strike="noStrike">
                <a:solidFill>
                  <a:srgbClr val="6600cc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8"/>
          <p:cNvSpPr/>
          <p:nvPr/>
        </p:nvSpPr>
        <p:spPr>
          <a:xfrm>
            <a:off x="304920" y="341316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什么时候用现在进行时</a:t>
            </a:r>
            <a:r>
              <a:rPr b="1" lang="en-US" sz="4000" spc="-1" strike="noStrike">
                <a:solidFill>
                  <a:srgbClr val="6600cc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3" descr="唱歌"/>
          <p:cNvPicPr/>
          <p:nvPr/>
        </p:nvPicPr>
        <p:blipFill>
          <a:blip r:embed="rId2"/>
          <a:stretch/>
        </p:blipFill>
        <p:spPr>
          <a:xfrm>
            <a:off x="762120" y="1981080"/>
            <a:ext cx="2971800" cy="2057400"/>
          </a:xfrm>
          <a:prstGeom prst="rect">
            <a:avLst/>
          </a:prstGeom>
          <a:ln w="0">
            <a:noFill/>
          </a:ln>
        </p:spPr>
      </p:pic>
      <p:sp>
        <p:nvSpPr>
          <p:cNvPr id="982" name="Text Box 4"/>
          <p:cNvSpPr/>
          <p:nvPr/>
        </p:nvSpPr>
        <p:spPr>
          <a:xfrm>
            <a:off x="4059360" y="3276720"/>
            <a:ext cx="383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He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is singing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"/>
          <p:cNvSpPr/>
          <p:nvPr/>
        </p:nvSpPr>
        <p:spPr>
          <a:xfrm>
            <a:off x="4799520" y="2133720"/>
            <a:ext cx="12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2" descr="gif010"/>
          <p:cNvPicPr/>
          <p:nvPr/>
        </p:nvPicPr>
        <p:blipFill>
          <a:blip r:embed="rId2"/>
          <a:stretch/>
        </p:blipFill>
        <p:spPr>
          <a:xfrm>
            <a:off x="1219320" y="1676520"/>
            <a:ext cx="2178000" cy="2819160"/>
          </a:xfrm>
          <a:prstGeom prst="rect">
            <a:avLst/>
          </a:prstGeom>
          <a:ln w="0">
            <a:noFill/>
          </a:ln>
        </p:spPr>
      </p:pic>
      <p:sp>
        <p:nvSpPr>
          <p:cNvPr id="985" name="Text Box 3"/>
          <p:cNvSpPr/>
          <p:nvPr/>
        </p:nvSpPr>
        <p:spPr>
          <a:xfrm>
            <a:off x="4541400" y="1905120"/>
            <a:ext cx="150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dra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4"/>
          <p:cNvSpPr/>
          <p:nvPr/>
        </p:nvSpPr>
        <p:spPr>
          <a:xfrm>
            <a:off x="3725280" y="3505320"/>
            <a:ext cx="403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He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is drawing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Picture 2" descr=""/>
          <p:cNvPicPr/>
          <p:nvPr/>
        </p:nvPicPr>
        <p:blipFill>
          <a:blip r:embed="rId2"/>
          <a:stretch/>
        </p:blipFill>
        <p:spPr>
          <a:xfrm>
            <a:off x="1219320" y="1143000"/>
            <a:ext cx="2590560" cy="2590920"/>
          </a:xfrm>
          <a:prstGeom prst="rect">
            <a:avLst/>
          </a:prstGeom>
          <a:ln w="0">
            <a:noFill/>
          </a:ln>
        </p:spPr>
      </p:pic>
      <p:sp>
        <p:nvSpPr>
          <p:cNvPr id="988" name="Text Box 3"/>
          <p:cNvSpPr/>
          <p:nvPr/>
        </p:nvSpPr>
        <p:spPr>
          <a:xfrm>
            <a:off x="4960440" y="2362320"/>
            <a:ext cx="18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d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4"/>
          <p:cNvSpPr/>
          <p:nvPr/>
        </p:nvSpPr>
        <p:spPr>
          <a:xfrm>
            <a:off x="2915280" y="3733920"/>
            <a:ext cx="505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They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are danc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2"/>
          <p:cNvGrpSpPr/>
          <p:nvPr/>
        </p:nvGrpSpPr>
        <p:grpSpPr>
          <a:xfrm>
            <a:off x="1066680" y="2514600"/>
            <a:ext cx="8077320" cy="914400"/>
            <a:chOff x="1066680" y="2514600"/>
            <a:chExt cx="8077320" cy="914400"/>
          </a:xfrm>
        </p:grpSpPr>
        <p:sp>
          <p:nvSpPr>
            <p:cNvPr id="991" name="Rectangle 3"/>
            <p:cNvSpPr/>
            <p:nvPr/>
          </p:nvSpPr>
          <p:spPr>
            <a:xfrm>
              <a:off x="1066680" y="2971800"/>
              <a:ext cx="7924680" cy="4572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4"/>
            <p:cNvSpPr/>
            <p:nvPr/>
          </p:nvSpPr>
          <p:spPr>
            <a:xfrm>
              <a:off x="1066680" y="2514600"/>
              <a:ext cx="5943600" cy="45720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 Box 5"/>
            <p:cNvSpPr/>
            <p:nvPr/>
          </p:nvSpPr>
          <p:spPr>
            <a:xfrm>
              <a:off x="1066680" y="25146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523880"/>
                  <a:tab algn="l" pos="33400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Comic Sans MS"/>
                  <a:ea typeface="PMingLiU"/>
                </a:rPr>
                <a:t> </a:t>
              </a:r>
              <a:r>
                <a:rPr b="1" lang="zh-CN" sz="2400" spc="-1" strike="noStrike">
                  <a:solidFill>
                    <a:srgbClr val="333399"/>
                  </a:solidFill>
                  <a:latin typeface="Comic Sans MS"/>
                  <a:ea typeface="PMingLiU"/>
                </a:rPr>
                <a:t>主语</a:t>
              </a:r>
              <a:r>
                <a:rPr b="1" lang="zh-TW" sz="2400" spc="-1" strike="noStrike">
                  <a:solidFill>
                    <a:srgbClr val="333399"/>
                  </a:solidFill>
                  <a:latin typeface="Comic Sans MS"/>
                  <a:ea typeface="PMingLiU"/>
                </a:rPr>
                <a:t>	</a:t>
              </a:r>
              <a:r>
                <a:rPr b="1" lang="en-US" sz="2400" spc="-1" strike="noStrike">
                  <a:solidFill>
                    <a:srgbClr val="333399"/>
                  </a:solidFill>
                  <a:latin typeface="Comic Sans MS"/>
                  <a:ea typeface="PMingLiU"/>
                </a:rPr>
                <a:t>be </a:t>
              </a:r>
              <a:r>
                <a:rPr b="1" lang="zh-CN" sz="2400" spc="-1" strike="noStrike">
                  <a:solidFill>
                    <a:srgbClr val="333399"/>
                  </a:solidFill>
                  <a:latin typeface="Comic Sans MS"/>
                  <a:ea typeface="PMingLiU"/>
                </a:rPr>
                <a:t>动词</a:t>
              </a:r>
              <a:r>
                <a:rPr b="1" lang="zh-TW" sz="2400" spc="-1" strike="noStrike">
                  <a:solidFill>
                    <a:srgbClr val="333399"/>
                  </a:solidFill>
                  <a:latin typeface="Comic Sans MS"/>
                  <a:ea typeface="PMingLiU"/>
                </a:rPr>
                <a:t> </a:t>
              </a:r>
              <a:r>
                <a:rPr b="1" lang="zh-TW" sz="2400" spc="-1" strike="noStrike">
                  <a:solidFill>
                    <a:srgbClr val="333399"/>
                  </a:solidFill>
                  <a:latin typeface="Comic Sans MS"/>
                  <a:ea typeface="PMingLiU"/>
                </a:rPr>
                <a:t>	</a:t>
              </a:r>
              <a:r>
                <a:rPr b="1" lang="zh-CN" sz="2400" spc="-1" strike="noStrike">
                  <a:solidFill>
                    <a:srgbClr val="333399"/>
                  </a:solidFill>
                  <a:latin typeface="Comic Sans MS"/>
                  <a:ea typeface="PMingLiU"/>
                </a:rPr>
                <a:t>行为动词</a:t>
              </a:r>
              <a:r>
                <a:rPr b="1" lang="zh-TW" sz="2400" spc="-1" strike="noStrike">
                  <a:solidFill>
                    <a:srgbClr val="333399"/>
                  </a:solidFill>
                  <a:latin typeface="Comic Sans MS"/>
                  <a:ea typeface="PMingLiU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Comic Sans MS"/>
                  <a:ea typeface="PMingLiU"/>
                </a:rPr>
                <a:t>(+ing)</a:t>
              </a:r>
              <a:r>
                <a:rPr b="1" lang="en-US" sz="2400" spc="-1" strike="noStrike">
                  <a:solidFill>
                    <a:srgbClr val="ff0066"/>
                  </a:solidFill>
                  <a:latin typeface="Comic Sans MS"/>
                  <a:ea typeface="PMingLiU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6"/>
            <p:cNvSpPr/>
            <p:nvPr/>
          </p:nvSpPr>
          <p:spPr>
            <a:xfrm>
              <a:off x="1218960" y="3048120"/>
              <a:ext cx="86040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7"/>
            <p:cNvSpPr/>
            <p:nvPr/>
          </p:nvSpPr>
          <p:spPr>
            <a:xfrm>
              <a:off x="2590560" y="3048120"/>
              <a:ext cx="144792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 algn="ctr">
                <a:lnSpc>
                  <a:spcPct val="7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am / ‘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Text Box 8"/>
            <p:cNvSpPr/>
            <p:nvPr/>
          </p:nvSpPr>
          <p:spPr>
            <a:xfrm>
              <a:off x="4647960" y="3048120"/>
              <a:ext cx="154620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draw</a:t>
              </a:r>
              <a:r>
                <a:rPr b="1" lang="en-US" sz="2400" spc="-1" strike="noStrike">
                  <a:solidFill>
                    <a:srgbClr val="ff33cc"/>
                  </a:solidFill>
                  <a:latin typeface="Comic Sans MS"/>
                  <a:ea typeface="PMingLiU"/>
                </a:rPr>
                <a:t>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9"/>
            <p:cNvSpPr/>
            <p:nvPr/>
          </p:nvSpPr>
          <p:spPr>
            <a:xfrm>
              <a:off x="7010280" y="3048120"/>
              <a:ext cx="190512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a pictur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Group 10"/>
          <p:cNvGrpSpPr/>
          <p:nvPr/>
        </p:nvGrpSpPr>
        <p:grpSpPr>
          <a:xfrm>
            <a:off x="1066680" y="3429000"/>
            <a:ext cx="8077320" cy="1447920"/>
            <a:chOff x="1066680" y="3429000"/>
            <a:chExt cx="8077320" cy="1447920"/>
          </a:xfrm>
        </p:grpSpPr>
        <p:sp>
          <p:nvSpPr>
            <p:cNvPr id="999" name="Rectangle 11"/>
            <p:cNvSpPr/>
            <p:nvPr/>
          </p:nvSpPr>
          <p:spPr>
            <a:xfrm>
              <a:off x="1066680" y="3429000"/>
              <a:ext cx="7924680" cy="1447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Text Box 12"/>
            <p:cNvSpPr/>
            <p:nvPr/>
          </p:nvSpPr>
          <p:spPr>
            <a:xfrm>
              <a:off x="1199880" y="3587760"/>
              <a:ext cx="936720" cy="12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S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13"/>
            <p:cNvSpPr/>
            <p:nvPr/>
          </p:nvSpPr>
          <p:spPr>
            <a:xfrm>
              <a:off x="2743200" y="39625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is / ‘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14"/>
            <p:cNvSpPr/>
            <p:nvPr/>
          </p:nvSpPr>
          <p:spPr>
            <a:xfrm>
              <a:off x="4481280" y="4016520"/>
              <a:ext cx="153828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463"/>
                </a:spcBef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sleep</a:t>
              </a:r>
              <a:r>
                <a:rPr b="1" lang="en-US" sz="2400" spc="-1" strike="noStrike">
                  <a:solidFill>
                    <a:srgbClr val="ff33cc"/>
                  </a:solidFill>
                  <a:latin typeface="Comic Sans MS"/>
                  <a:ea typeface="PMingLiU"/>
                </a:rPr>
                <a:t>ing</a:t>
              </a: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 Box 15"/>
            <p:cNvSpPr/>
            <p:nvPr/>
          </p:nvSpPr>
          <p:spPr>
            <a:xfrm>
              <a:off x="6933960" y="4071960"/>
              <a:ext cx="221004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in the roo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16"/>
          <p:cNvGrpSpPr/>
          <p:nvPr/>
        </p:nvGrpSpPr>
        <p:grpSpPr>
          <a:xfrm>
            <a:off x="1066680" y="4876920"/>
            <a:ext cx="7924680" cy="1447560"/>
            <a:chOff x="1066680" y="4876920"/>
            <a:chExt cx="7924680" cy="1447560"/>
          </a:xfrm>
        </p:grpSpPr>
        <p:sp>
          <p:nvSpPr>
            <p:cNvPr id="1005" name="Rectangle 17"/>
            <p:cNvSpPr/>
            <p:nvPr/>
          </p:nvSpPr>
          <p:spPr>
            <a:xfrm>
              <a:off x="1066680" y="4876920"/>
              <a:ext cx="7924680" cy="144756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18"/>
            <p:cNvSpPr/>
            <p:nvPr/>
          </p:nvSpPr>
          <p:spPr>
            <a:xfrm>
              <a:off x="1199880" y="5035320"/>
              <a:ext cx="936720" cy="12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Yo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W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Th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19"/>
            <p:cNvSpPr/>
            <p:nvPr/>
          </p:nvSpPr>
          <p:spPr>
            <a:xfrm>
              <a:off x="2666880" y="54100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are / ‘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20"/>
            <p:cNvSpPr/>
            <p:nvPr/>
          </p:nvSpPr>
          <p:spPr>
            <a:xfrm>
              <a:off x="4481280" y="5464080"/>
              <a:ext cx="176688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463"/>
                </a:spcBef>
                <a:tabLst>
                  <a:tab algn="l" pos="0"/>
                  <a:tab algn="l" pos="190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watch</a:t>
              </a:r>
              <a:r>
                <a:rPr b="1" lang="en-US" sz="2400" spc="-1" strike="noStrike">
                  <a:solidFill>
                    <a:srgbClr val="ff33cc"/>
                  </a:solidFill>
                  <a:latin typeface="Comic Sans MS"/>
                  <a:ea typeface="PMingLiU"/>
                </a:rPr>
                <a:t>ing</a:t>
              </a: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Text Box 21"/>
            <p:cNvSpPr/>
            <p:nvPr/>
          </p:nvSpPr>
          <p:spPr>
            <a:xfrm>
              <a:off x="7010280" y="5486040"/>
              <a:ext cx="182880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a fil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Text Box 36"/>
          <p:cNvSpPr/>
          <p:nvPr/>
        </p:nvSpPr>
        <p:spPr>
          <a:xfrm>
            <a:off x="685800" y="990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cc"/>
                </a:solidFill>
                <a:latin typeface="Monotype Sorts"/>
                <a:ea typeface="Monotype Sorts"/>
              </a:rPr>
              <a:t>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PMingLiU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PMingLiU"/>
              </a:rPr>
              <a:t>这种时态的句子由两种动词组成。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PMingLiU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Group 37"/>
          <p:cNvGrpSpPr/>
          <p:nvPr/>
        </p:nvGrpSpPr>
        <p:grpSpPr>
          <a:xfrm>
            <a:off x="3352680" y="1676520"/>
            <a:ext cx="3505320" cy="609480"/>
            <a:chOff x="3352680" y="1676520"/>
            <a:chExt cx="3505320" cy="609480"/>
          </a:xfrm>
        </p:grpSpPr>
        <p:sp>
          <p:nvSpPr>
            <p:cNvPr id="1012" name="AutoShape 38"/>
            <p:cNvSpPr/>
            <p:nvPr/>
          </p:nvSpPr>
          <p:spPr>
            <a:xfrm>
              <a:off x="3352680" y="1676520"/>
              <a:ext cx="784080" cy="609480"/>
            </a:xfrm>
            <a:prstGeom prst="roundRect">
              <a:avLst>
                <a:gd name="adj" fmla="val 16667"/>
              </a:avLst>
            </a:prstGeom>
            <a:solidFill>
              <a:srgbClr val="ffff99">
                <a:alpha val="50000"/>
              </a:srgbClr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b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39"/>
            <p:cNvSpPr/>
            <p:nvPr/>
          </p:nvSpPr>
          <p:spPr>
            <a:xfrm>
              <a:off x="4419360" y="1676520"/>
              <a:ext cx="533520" cy="609480"/>
            </a:xfrm>
            <a:prstGeom prst="plus">
              <a:avLst>
                <a:gd name="adj" fmla="val 39167"/>
              </a:avLst>
            </a:prstGeom>
            <a:solidFill>
              <a:srgbClr val="ff9933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AutoShape 40"/>
            <p:cNvSpPr/>
            <p:nvPr/>
          </p:nvSpPr>
          <p:spPr>
            <a:xfrm>
              <a:off x="5257800" y="1676520"/>
              <a:ext cx="1600200" cy="6094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-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Rectangle 41"/>
          <p:cNvSpPr/>
          <p:nvPr/>
        </p:nvSpPr>
        <p:spPr>
          <a:xfrm>
            <a:off x="685800" y="2286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omic Sans MS"/>
              </a:rPr>
              <a:t>Present continuous tense </a:t>
            </a:r>
            <a:r>
              <a:rPr b="1" lang="zh-CN" sz="3600" spc="-1" strike="noStrike">
                <a:solidFill>
                  <a:srgbClr val="ff3399"/>
                </a:solidFill>
                <a:latin typeface="Comic Sans MS"/>
              </a:rPr>
              <a:t>现在进行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Text Box 16"/>
          <p:cNvSpPr/>
          <p:nvPr/>
        </p:nvSpPr>
        <p:spPr>
          <a:xfrm>
            <a:off x="685800" y="10666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cc"/>
                </a:solidFill>
                <a:latin typeface="Monotype Sorts"/>
                <a:ea typeface="Monotype Sorts"/>
              </a:rPr>
              <a:t>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PMingLiU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PMingLiU"/>
              </a:rPr>
              <a:t>直接在动词后面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PMingLiU"/>
              </a:rPr>
              <a:t>ing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PMingLiU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PMingLiU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Group 17"/>
          <p:cNvGrpSpPr/>
          <p:nvPr/>
        </p:nvGrpSpPr>
        <p:grpSpPr>
          <a:xfrm>
            <a:off x="1143000" y="2057400"/>
            <a:ext cx="7696080" cy="3962520"/>
            <a:chOff x="1143000" y="2057400"/>
            <a:chExt cx="7696080" cy="3962520"/>
          </a:xfrm>
        </p:grpSpPr>
        <p:sp>
          <p:nvSpPr>
            <p:cNvPr id="1018" name="AutoShape 18"/>
            <p:cNvSpPr/>
            <p:nvPr/>
          </p:nvSpPr>
          <p:spPr>
            <a:xfrm>
              <a:off x="1143000" y="2057400"/>
              <a:ext cx="7696080" cy="39625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19"/>
            <p:cNvSpPr/>
            <p:nvPr/>
          </p:nvSpPr>
          <p:spPr>
            <a:xfrm>
              <a:off x="2743200" y="2209680"/>
              <a:ext cx="952560" cy="48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g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20"/>
          <p:cNvGrpSpPr/>
          <p:nvPr/>
        </p:nvGrpSpPr>
        <p:grpSpPr>
          <a:xfrm>
            <a:off x="3962520" y="2209680"/>
            <a:ext cx="1412280" cy="489960"/>
            <a:chOff x="3962520" y="2209680"/>
            <a:chExt cx="1412280" cy="489960"/>
          </a:xfrm>
        </p:grpSpPr>
        <p:sp>
          <p:nvSpPr>
            <p:cNvPr id="1021" name="AutoShape 21"/>
            <p:cNvSpPr/>
            <p:nvPr/>
          </p:nvSpPr>
          <p:spPr>
            <a:xfrm>
              <a:off x="3962520" y="2286000"/>
              <a:ext cx="264600" cy="366480"/>
            </a:xfrm>
            <a:prstGeom prst="plus">
              <a:avLst>
                <a:gd name="adj" fmla="val 39167"/>
              </a:avLst>
            </a:prstGeom>
            <a:solidFill>
              <a:srgbClr val="ff9933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22"/>
            <p:cNvSpPr/>
            <p:nvPr/>
          </p:nvSpPr>
          <p:spPr>
            <a:xfrm>
              <a:off x="4495680" y="2209680"/>
              <a:ext cx="879120" cy="48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66ff"/>
                  </a:solidFill>
                  <a:latin typeface="Comic Sans MS"/>
                  <a:ea typeface="PMingLiU"/>
                </a:rPr>
                <a:t>in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Group 23"/>
          <p:cNvGrpSpPr/>
          <p:nvPr/>
        </p:nvGrpSpPr>
        <p:grpSpPr>
          <a:xfrm>
            <a:off x="5562720" y="2209680"/>
            <a:ext cx="1855800" cy="489960"/>
            <a:chOff x="5562720" y="2209680"/>
            <a:chExt cx="1855800" cy="489960"/>
          </a:xfrm>
        </p:grpSpPr>
        <p:sp>
          <p:nvSpPr>
            <p:cNvPr id="1024" name="AutoShape 24"/>
            <p:cNvSpPr/>
            <p:nvPr/>
          </p:nvSpPr>
          <p:spPr>
            <a:xfrm>
              <a:off x="5562720" y="2286000"/>
              <a:ext cx="512640" cy="288720"/>
            </a:xfrm>
            <a:prstGeom prst="rightArrow">
              <a:avLst>
                <a:gd name="adj1" fmla="val 50000"/>
                <a:gd name="adj2" fmla="val 4438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25"/>
            <p:cNvSpPr/>
            <p:nvPr/>
          </p:nvSpPr>
          <p:spPr>
            <a:xfrm>
              <a:off x="6172200" y="2209680"/>
              <a:ext cx="1246320" cy="48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go</a:t>
              </a:r>
              <a:r>
                <a:rPr b="1" lang="en-US" sz="2600" spc="-1" strike="noStrike">
                  <a:solidFill>
                    <a:srgbClr val="0066ff"/>
                  </a:solidFill>
                  <a:latin typeface="Comic Sans MS"/>
                  <a:ea typeface="PMingLiU"/>
                </a:rPr>
                <a:t>in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26"/>
          <p:cNvGrpSpPr/>
          <p:nvPr/>
        </p:nvGrpSpPr>
        <p:grpSpPr>
          <a:xfrm>
            <a:off x="1461960" y="3581280"/>
            <a:ext cx="2932200" cy="489960"/>
            <a:chOff x="1461960" y="3581280"/>
            <a:chExt cx="2932200" cy="489960"/>
          </a:xfrm>
        </p:grpSpPr>
        <p:sp>
          <p:nvSpPr>
            <p:cNvPr id="1027" name="Text Box 27"/>
            <p:cNvSpPr/>
            <p:nvPr/>
          </p:nvSpPr>
          <p:spPr>
            <a:xfrm>
              <a:off x="1461960" y="3581280"/>
              <a:ext cx="2932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d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28"/>
            <p:cNvSpPr/>
            <p:nvPr/>
          </p:nvSpPr>
          <p:spPr>
            <a:xfrm>
              <a:off x="2604960" y="3657600"/>
              <a:ext cx="514440" cy="288720"/>
            </a:xfrm>
            <a:prstGeom prst="rightArrow">
              <a:avLst>
                <a:gd name="adj1" fmla="val 50000"/>
                <a:gd name="adj2" fmla="val 4454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Group 29"/>
          <p:cNvGrpSpPr/>
          <p:nvPr/>
        </p:nvGrpSpPr>
        <p:grpSpPr>
          <a:xfrm>
            <a:off x="1447920" y="4365720"/>
            <a:ext cx="2931840" cy="489960"/>
            <a:chOff x="1447920" y="4365720"/>
            <a:chExt cx="2931840" cy="489960"/>
          </a:xfrm>
        </p:grpSpPr>
        <p:sp>
          <p:nvSpPr>
            <p:cNvPr id="1030" name="Text Box 30"/>
            <p:cNvSpPr/>
            <p:nvPr/>
          </p:nvSpPr>
          <p:spPr>
            <a:xfrm>
              <a:off x="1447920" y="4365720"/>
              <a:ext cx="2931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talk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utoShape 31"/>
            <p:cNvSpPr/>
            <p:nvPr/>
          </p:nvSpPr>
          <p:spPr>
            <a:xfrm>
              <a:off x="2604960" y="4419720"/>
              <a:ext cx="513720" cy="287280"/>
            </a:xfrm>
            <a:prstGeom prst="rightArrow">
              <a:avLst>
                <a:gd name="adj1" fmla="val 50000"/>
                <a:gd name="adj2" fmla="val 44706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32"/>
          <p:cNvGrpSpPr/>
          <p:nvPr/>
        </p:nvGrpSpPr>
        <p:grpSpPr>
          <a:xfrm>
            <a:off x="1447920" y="5094360"/>
            <a:ext cx="2931840" cy="489960"/>
            <a:chOff x="1447920" y="5094360"/>
            <a:chExt cx="2931840" cy="489960"/>
          </a:xfrm>
        </p:grpSpPr>
        <p:sp>
          <p:nvSpPr>
            <p:cNvPr id="1033" name="Text Box 33"/>
            <p:cNvSpPr/>
            <p:nvPr/>
          </p:nvSpPr>
          <p:spPr>
            <a:xfrm>
              <a:off x="1447920" y="5094360"/>
              <a:ext cx="2931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watc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AutoShape 34"/>
            <p:cNvSpPr/>
            <p:nvPr/>
          </p:nvSpPr>
          <p:spPr>
            <a:xfrm>
              <a:off x="2604960" y="5181840"/>
              <a:ext cx="513720" cy="287280"/>
            </a:xfrm>
            <a:prstGeom prst="rightArrow">
              <a:avLst>
                <a:gd name="adj1" fmla="val 50000"/>
                <a:gd name="adj2" fmla="val 44706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35"/>
          <p:cNvGrpSpPr/>
          <p:nvPr/>
        </p:nvGrpSpPr>
        <p:grpSpPr>
          <a:xfrm>
            <a:off x="5195880" y="3581280"/>
            <a:ext cx="2930400" cy="489960"/>
            <a:chOff x="5195880" y="3581280"/>
            <a:chExt cx="2930400" cy="489960"/>
          </a:xfrm>
        </p:grpSpPr>
        <p:sp>
          <p:nvSpPr>
            <p:cNvPr id="1036" name="Text Box 36"/>
            <p:cNvSpPr/>
            <p:nvPr/>
          </p:nvSpPr>
          <p:spPr>
            <a:xfrm>
              <a:off x="5195880" y="3581280"/>
              <a:ext cx="2930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play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AutoShape 37"/>
            <p:cNvSpPr/>
            <p:nvPr/>
          </p:nvSpPr>
          <p:spPr>
            <a:xfrm>
              <a:off x="6186600" y="3657600"/>
              <a:ext cx="512640" cy="288720"/>
            </a:xfrm>
            <a:prstGeom prst="rightArrow">
              <a:avLst>
                <a:gd name="adj1" fmla="val 50000"/>
                <a:gd name="adj2" fmla="val 4438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38"/>
          <p:cNvGrpSpPr/>
          <p:nvPr/>
        </p:nvGrpSpPr>
        <p:grpSpPr>
          <a:xfrm>
            <a:off x="5195880" y="4343400"/>
            <a:ext cx="2930400" cy="489960"/>
            <a:chOff x="5195880" y="4343400"/>
            <a:chExt cx="2930400" cy="489960"/>
          </a:xfrm>
        </p:grpSpPr>
        <p:sp>
          <p:nvSpPr>
            <p:cNvPr id="1039" name="Text Box 39"/>
            <p:cNvSpPr/>
            <p:nvPr/>
          </p:nvSpPr>
          <p:spPr>
            <a:xfrm>
              <a:off x="5195880" y="4343400"/>
              <a:ext cx="2930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read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AutoShape 40"/>
            <p:cNvSpPr/>
            <p:nvPr/>
          </p:nvSpPr>
          <p:spPr>
            <a:xfrm>
              <a:off x="6186600" y="4495680"/>
              <a:ext cx="512640" cy="287280"/>
            </a:xfrm>
            <a:prstGeom prst="rightArrow">
              <a:avLst>
                <a:gd name="adj1" fmla="val 50000"/>
                <a:gd name="adj2" fmla="val 44612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41"/>
          <p:cNvGrpSpPr/>
          <p:nvPr/>
        </p:nvGrpSpPr>
        <p:grpSpPr>
          <a:xfrm>
            <a:off x="5186520" y="5094360"/>
            <a:ext cx="2930400" cy="489960"/>
            <a:chOff x="5186520" y="5094360"/>
            <a:chExt cx="2930400" cy="489960"/>
          </a:xfrm>
        </p:grpSpPr>
        <p:sp>
          <p:nvSpPr>
            <p:cNvPr id="1042" name="Text Box 42"/>
            <p:cNvSpPr/>
            <p:nvPr/>
          </p:nvSpPr>
          <p:spPr>
            <a:xfrm>
              <a:off x="5186520" y="5094360"/>
              <a:ext cx="2930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look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43"/>
            <p:cNvSpPr/>
            <p:nvPr/>
          </p:nvSpPr>
          <p:spPr>
            <a:xfrm>
              <a:off x="6186600" y="5181840"/>
              <a:ext cx="512640" cy="287280"/>
            </a:xfrm>
            <a:prstGeom prst="rightArrow">
              <a:avLst>
                <a:gd name="adj1" fmla="val 50000"/>
                <a:gd name="adj2" fmla="val 44612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Text Box 44"/>
          <p:cNvSpPr/>
          <p:nvPr/>
        </p:nvSpPr>
        <p:spPr>
          <a:xfrm>
            <a:off x="3214800" y="3581280"/>
            <a:ext cx="130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PMingLiU"/>
              </a:rPr>
              <a:t>do</a:t>
            </a:r>
            <a:r>
              <a:rPr b="1" lang="en-US" sz="2600" spc="-1" strike="noStrike">
                <a:solidFill>
                  <a:srgbClr val="0066ff"/>
                </a:solidFill>
                <a:latin typeface="Comic Sans MS"/>
                <a:ea typeface="PMingLiU"/>
              </a:rPr>
              <a:t>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45"/>
          <p:cNvSpPr/>
          <p:nvPr/>
        </p:nvSpPr>
        <p:spPr>
          <a:xfrm>
            <a:off x="3214800" y="4343400"/>
            <a:ext cx="139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PMingLiU"/>
              </a:rPr>
              <a:t>talk</a:t>
            </a:r>
            <a:r>
              <a:rPr b="1" lang="en-US" sz="2600" spc="-1" strike="noStrike">
                <a:solidFill>
                  <a:srgbClr val="0066ff"/>
                </a:solidFill>
                <a:latin typeface="Comic Sans MS"/>
                <a:ea typeface="PMingLiU"/>
              </a:rPr>
              <a:t>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46"/>
          <p:cNvSpPr/>
          <p:nvPr/>
        </p:nvSpPr>
        <p:spPr>
          <a:xfrm>
            <a:off x="3206880" y="5094360"/>
            <a:ext cx="1685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PMingLiU"/>
              </a:rPr>
              <a:t>watch</a:t>
            </a:r>
            <a:r>
              <a:rPr b="1" lang="en-US" sz="2600" spc="-1" strike="noStrike">
                <a:solidFill>
                  <a:srgbClr val="0066ff"/>
                </a:solidFill>
                <a:latin typeface="Comic Sans MS"/>
                <a:ea typeface="PMingLiU"/>
              </a:rPr>
              <a:t>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47"/>
          <p:cNvSpPr/>
          <p:nvPr/>
        </p:nvSpPr>
        <p:spPr>
          <a:xfrm>
            <a:off x="6796080" y="3581280"/>
            <a:ext cx="139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PMingLiU"/>
              </a:rPr>
              <a:t>play</a:t>
            </a:r>
            <a:r>
              <a:rPr b="1" lang="en-US" sz="2600" spc="-1" strike="noStrike">
                <a:solidFill>
                  <a:srgbClr val="0066ff"/>
                </a:solidFill>
                <a:latin typeface="Comic Sans MS"/>
                <a:ea typeface="PMingLiU"/>
              </a:rPr>
              <a:t>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48"/>
          <p:cNvSpPr/>
          <p:nvPr/>
        </p:nvSpPr>
        <p:spPr>
          <a:xfrm>
            <a:off x="6796080" y="4343400"/>
            <a:ext cx="139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PMingLiU"/>
              </a:rPr>
              <a:t>read</a:t>
            </a:r>
            <a:r>
              <a:rPr b="1" lang="en-US" sz="2600" spc="-1" strike="noStrike">
                <a:solidFill>
                  <a:srgbClr val="0066ff"/>
                </a:solidFill>
                <a:latin typeface="Comic Sans MS"/>
                <a:ea typeface="PMingLiU"/>
              </a:rPr>
              <a:t>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49"/>
          <p:cNvSpPr/>
          <p:nvPr/>
        </p:nvSpPr>
        <p:spPr>
          <a:xfrm>
            <a:off x="6797520" y="5094360"/>
            <a:ext cx="139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PMingLiU"/>
              </a:rPr>
              <a:t>look</a:t>
            </a:r>
            <a:r>
              <a:rPr b="1" lang="en-US" sz="2600" spc="-1" strike="noStrike">
                <a:solidFill>
                  <a:srgbClr val="0066ff"/>
                </a:solidFill>
                <a:latin typeface="Comic Sans MS"/>
                <a:ea typeface="PMingLiU"/>
              </a:rPr>
              <a:t>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50"/>
          <p:cNvSpPr/>
          <p:nvPr/>
        </p:nvSpPr>
        <p:spPr>
          <a:xfrm>
            <a:off x="685800" y="2286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omic Sans MS"/>
              </a:rPr>
              <a:t>Present continuous tense </a:t>
            </a:r>
            <a:r>
              <a:rPr b="1" lang="zh-CN" sz="3600" spc="-1" strike="noStrike">
                <a:solidFill>
                  <a:srgbClr val="ff3399"/>
                </a:solidFill>
                <a:latin typeface="Comic Sans MS"/>
              </a:rPr>
              <a:t>现在进行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51"/>
          <p:cNvSpPr/>
          <p:nvPr/>
        </p:nvSpPr>
        <p:spPr>
          <a:xfrm>
            <a:off x="1447920" y="2895480"/>
            <a:ext cx="1600200" cy="9471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Comic Sans MS"/>
                <a:ea typeface="PMingLiU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Text Box 16"/>
          <p:cNvSpPr/>
          <p:nvPr/>
        </p:nvSpPr>
        <p:spPr>
          <a:xfrm>
            <a:off x="685800" y="10666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cc"/>
                </a:solidFill>
                <a:latin typeface="Monotype Sorts"/>
                <a:ea typeface="Monotype Sorts"/>
              </a:rPr>
              <a:t>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PMingLiU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PMingLiU"/>
              </a:rPr>
              <a:t>去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PMingLiU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PMingLiU"/>
              </a:rPr>
              <a:t>再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PMingLiU"/>
              </a:rPr>
              <a:t>ing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PMingLiU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PMingLiU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3" name="Group 17"/>
          <p:cNvGrpSpPr/>
          <p:nvPr/>
        </p:nvGrpSpPr>
        <p:grpSpPr>
          <a:xfrm>
            <a:off x="1143000" y="2057400"/>
            <a:ext cx="7696080" cy="3962520"/>
            <a:chOff x="1143000" y="2057400"/>
            <a:chExt cx="7696080" cy="3962520"/>
          </a:xfrm>
        </p:grpSpPr>
        <p:sp>
          <p:nvSpPr>
            <p:cNvPr id="1054" name="AutoShape 18"/>
            <p:cNvSpPr/>
            <p:nvPr/>
          </p:nvSpPr>
          <p:spPr>
            <a:xfrm>
              <a:off x="1143000" y="2057400"/>
              <a:ext cx="7696080" cy="39625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19"/>
            <p:cNvSpPr/>
            <p:nvPr/>
          </p:nvSpPr>
          <p:spPr>
            <a:xfrm>
              <a:off x="2590920" y="2209680"/>
              <a:ext cx="1104840" cy="48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com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Group 20"/>
          <p:cNvGrpSpPr/>
          <p:nvPr/>
        </p:nvGrpSpPr>
        <p:grpSpPr>
          <a:xfrm>
            <a:off x="3962520" y="2209680"/>
            <a:ext cx="1412280" cy="489960"/>
            <a:chOff x="3962520" y="2209680"/>
            <a:chExt cx="1412280" cy="489960"/>
          </a:xfrm>
        </p:grpSpPr>
        <p:sp>
          <p:nvSpPr>
            <p:cNvPr id="1057" name="AutoShape 21"/>
            <p:cNvSpPr/>
            <p:nvPr/>
          </p:nvSpPr>
          <p:spPr>
            <a:xfrm>
              <a:off x="3962520" y="2286000"/>
              <a:ext cx="264600" cy="366480"/>
            </a:xfrm>
            <a:prstGeom prst="plus">
              <a:avLst>
                <a:gd name="adj" fmla="val 39167"/>
              </a:avLst>
            </a:prstGeom>
            <a:solidFill>
              <a:srgbClr val="ff9933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22"/>
            <p:cNvSpPr/>
            <p:nvPr/>
          </p:nvSpPr>
          <p:spPr>
            <a:xfrm>
              <a:off x="4495680" y="2209680"/>
              <a:ext cx="879120" cy="48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66ff"/>
                  </a:solidFill>
                  <a:latin typeface="Comic Sans MS"/>
                  <a:ea typeface="PMingLiU"/>
                </a:rPr>
                <a:t>in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Group 23"/>
          <p:cNvGrpSpPr/>
          <p:nvPr/>
        </p:nvGrpSpPr>
        <p:grpSpPr>
          <a:xfrm>
            <a:off x="5562720" y="2209680"/>
            <a:ext cx="1855800" cy="885960"/>
            <a:chOff x="5562720" y="2209680"/>
            <a:chExt cx="1855800" cy="885960"/>
          </a:xfrm>
        </p:grpSpPr>
        <p:sp>
          <p:nvSpPr>
            <p:cNvPr id="1060" name="AutoShape 24"/>
            <p:cNvSpPr/>
            <p:nvPr/>
          </p:nvSpPr>
          <p:spPr>
            <a:xfrm>
              <a:off x="5562720" y="2286000"/>
              <a:ext cx="512640" cy="288720"/>
            </a:xfrm>
            <a:prstGeom prst="rightArrow">
              <a:avLst>
                <a:gd name="adj1" fmla="val 50000"/>
                <a:gd name="adj2" fmla="val 4438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Text Box 25"/>
            <p:cNvSpPr/>
            <p:nvPr/>
          </p:nvSpPr>
          <p:spPr>
            <a:xfrm>
              <a:off x="6172200" y="2209680"/>
              <a:ext cx="1246320" cy="88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com</a:t>
              </a:r>
              <a:r>
                <a:rPr b="1" lang="en-US" sz="2600" spc="-1" strike="noStrike">
                  <a:solidFill>
                    <a:srgbClr val="0066ff"/>
                  </a:solidFill>
                  <a:latin typeface="Comic Sans MS"/>
                  <a:ea typeface="PMingLiU"/>
                </a:rPr>
                <a:t>in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Line 26"/>
          <p:cNvSpPr/>
          <p:nvPr/>
        </p:nvSpPr>
        <p:spPr>
          <a:xfrm flipV="1">
            <a:off x="3352680" y="2285640"/>
            <a:ext cx="15264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27"/>
          <p:cNvSpPr/>
          <p:nvPr/>
        </p:nvSpPr>
        <p:spPr>
          <a:xfrm>
            <a:off x="1538280" y="3657600"/>
            <a:ext cx="293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PMingLiU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Group 28"/>
          <p:cNvGrpSpPr/>
          <p:nvPr/>
        </p:nvGrpSpPr>
        <p:grpSpPr>
          <a:xfrm>
            <a:off x="2681280" y="3657600"/>
            <a:ext cx="1913040" cy="885960"/>
            <a:chOff x="2681280" y="3657600"/>
            <a:chExt cx="1913040" cy="885960"/>
          </a:xfrm>
        </p:grpSpPr>
        <p:sp>
          <p:nvSpPr>
            <p:cNvPr id="1065" name="AutoShape 29"/>
            <p:cNvSpPr/>
            <p:nvPr/>
          </p:nvSpPr>
          <p:spPr>
            <a:xfrm>
              <a:off x="2681280" y="3733920"/>
              <a:ext cx="514440" cy="288720"/>
            </a:xfrm>
            <a:prstGeom prst="rightArrow">
              <a:avLst>
                <a:gd name="adj1" fmla="val 50000"/>
                <a:gd name="adj2" fmla="val 4454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Text Box 30"/>
            <p:cNvSpPr/>
            <p:nvPr/>
          </p:nvSpPr>
          <p:spPr>
            <a:xfrm>
              <a:off x="3290760" y="3657600"/>
              <a:ext cx="13035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hav</a:t>
              </a:r>
              <a:r>
                <a:rPr b="1" lang="en-US" sz="2600" spc="-1" strike="noStrike">
                  <a:solidFill>
                    <a:srgbClr val="0066ff"/>
                  </a:solidFill>
                  <a:latin typeface="Comic Sans MS"/>
                  <a:ea typeface="PMingLiU"/>
                </a:rPr>
                <a:t>in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Text Box 31"/>
          <p:cNvSpPr/>
          <p:nvPr/>
        </p:nvSpPr>
        <p:spPr>
          <a:xfrm>
            <a:off x="1523880" y="4441680"/>
            <a:ext cx="293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PMingLiU"/>
              </a:rPr>
              <a:t>wri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Group 32"/>
          <p:cNvGrpSpPr/>
          <p:nvPr/>
        </p:nvGrpSpPr>
        <p:grpSpPr>
          <a:xfrm>
            <a:off x="2681280" y="4419720"/>
            <a:ext cx="2001960" cy="489960"/>
            <a:chOff x="2681280" y="4419720"/>
            <a:chExt cx="2001960" cy="489960"/>
          </a:xfrm>
        </p:grpSpPr>
        <p:sp>
          <p:nvSpPr>
            <p:cNvPr id="1069" name="AutoShape 33"/>
            <p:cNvSpPr/>
            <p:nvPr/>
          </p:nvSpPr>
          <p:spPr>
            <a:xfrm>
              <a:off x="2681280" y="4496040"/>
              <a:ext cx="514440" cy="287280"/>
            </a:xfrm>
            <a:prstGeom prst="rightArrow">
              <a:avLst>
                <a:gd name="adj1" fmla="val 50000"/>
                <a:gd name="adj2" fmla="val 4476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Text Box 34"/>
            <p:cNvSpPr/>
            <p:nvPr/>
          </p:nvSpPr>
          <p:spPr>
            <a:xfrm>
              <a:off x="3290760" y="4419720"/>
              <a:ext cx="139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writ</a:t>
              </a:r>
              <a:r>
                <a:rPr b="1" lang="en-US" sz="2600" spc="-1" strike="noStrike">
                  <a:solidFill>
                    <a:srgbClr val="0066ff"/>
                  </a:solidFill>
                  <a:latin typeface="Comic Sans MS"/>
                  <a:ea typeface="PMingLiU"/>
                </a:rPr>
                <a:t>in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1" name="Line 35"/>
          <p:cNvSpPr/>
          <p:nvPr/>
        </p:nvSpPr>
        <p:spPr>
          <a:xfrm flipV="1">
            <a:off x="2147760" y="3809520"/>
            <a:ext cx="2286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36"/>
          <p:cNvSpPr/>
          <p:nvPr/>
        </p:nvSpPr>
        <p:spPr>
          <a:xfrm flipV="1">
            <a:off x="2224080" y="4571640"/>
            <a:ext cx="2286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37"/>
          <p:cNvSpPr/>
          <p:nvPr/>
        </p:nvSpPr>
        <p:spPr>
          <a:xfrm>
            <a:off x="1523880" y="5170320"/>
            <a:ext cx="293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PMingLiU"/>
              </a:rPr>
              <a:t>ri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Group 38"/>
          <p:cNvGrpSpPr/>
          <p:nvPr/>
        </p:nvGrpSpPr>
        <p:grpSpPr>
          <a:xfrm>
            <a:off x="2681280" y="5170320"/>
            <a:ext cx="2287440" cy="489960"/>
            <a:chOff x="2681280" y="5170320"/>
            <a:chExt cx="2287440" cy="489960"/>
          </a:xfrm>
        </p:grpSpPr>
        <p:sp>
          <p:nvSpPr>
            <p:cNvPr id="1075" name="AutoShape 39"/>
            <p:cNvSpPr/>
            <p:nvPr/>
          </p:nvSpPr>
          <p:spPr>
            <a:xfrm>
              <a:off x="2681280" y="5257800"/>
              <a:ext cx="514440" cy="287280"/>
            </a:xfrm>
            <a:prstGeom prst="rightArrow">
              <a:avLst>
                <a:gd name="adj1" fmla="val 50000"/>
                <a:gd name="adj2" fmla="val 4476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Text Box 40"/>
            <p:cNvSpPr/>
            <p:nvPr/>
          </p:nvSpPr>
          <p:spPr>
            <a:xfrm>
              <a:off x="3282840" y="5170320"/>
              <a:ext cx="1685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rid</a:t>
              </a:r>
              <a:r>
                <a:rPr b="1" lang="en-US" sz="2600" spc="-1" strike="noStrike">
                  <a:solidFill>
                    <a:srgbClr val="0066ff"/>
                  </a:solidFill>
                  <a:latin typeface="Comic Sans MS"/>
                  <a:ea typeface="PMingLiU"/>
                </a:rPr>
                <a:t>in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Line 41"/>
          <p:cNvSpPr/>
          <p:nvPr/>
        </p:nvSpPr>
        <p:spPr>
          <a:xfrm flipV="1">
            <a:off x="2071800" y="5257440"/>
            <a:ext cx="1522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42"/>
          <p:cNvSpPr/>
          <p:nvPr/>
        </p:nvSpPr>
        <p:spPr>
          <a:xfrm>
            <a:off x="5272200" y="3657600"/>
            <a:ext cx="293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PMingLiU"/>
              </a:rPr>
              <a:t>liv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43"/>
          <p:cNvGrpSpPr/>
          <p:nvPr/>
        </p:nvGrpSpPr>
        <p:grpSpPr>
          <a:xfrm>
            <a:off x="6262560" y="3657600"/>
            <a:ext cx="2003400" cy="489960"/>
            <a:chOff x="6262560" y="3657600"/>
            <a:chExt cx="2003400" cy="489960"/>
          </a:xfrm>
        </p:grpSpPr>
        <p:sp>
          <p:nvSpPr>
            <p:cNvPr id="1080" name="AutoShape 44"/>
            <p:cNvSpPr/>
            <p:nvPr/>
          </p:nvSpPr>
          <p:spPr>
            <a:xfrm>
              <a:off x="6262560" y="3733920"/>
              <a:ext cx="512640" cy="288720"/>
            </a:xfrm>
            <a:prstGeom prst="rightArrow">
              <a:avLst>
                <a:gd name="adj1" fmla="val 50000"/>
                <a:gd name="adj2" fmla="val 4438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Text Box 45"/>
            <p:cNvSpPr/>
            <p:nvPr/>
          </p:nvSpPr>
          <p:spPr>
            <a:xfrm>
              <a:off x="6872040" y="3657600"/>
              <a:ext cx="1393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liv</a:t>
              </a:r>
              <a:r>
                <a:rPr b="1" lang="en-US" sz="2600" spc="-1" strike="noStrike">
                  <a:solidFill>
                    <a:srgbClr val="0066ff"/>
                  </a:solidFill>
                  <a:latin typeface="Comic Sans MS"/>
                  <a:ea typeface="PMingLiU"/>
                </a:rPr>
                <a:t>in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Text Box 46"/>
          <p:cNvSpPr/>
          <p:nvPr/>
        </p:nvSpPr>
        <p:spPr>
          <a:xfrm>
            <a:off x="5272200" y="4419720"/>
            <a:ext cx="293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PMingLiU"/>
              </a:rPr>
              <a:t>driv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Group 47"/>
          <p:cNvGrpSpPr/>
          <p:nvPr/>
        </p:nvGrpSpPr>
        <p:grpSpPr>
          <a:xfrm>
            <a:off x="6262560" y="4419720"/>
            <a:ext cx="2003400" cy="489960"/>
            <a:chOff x="6262560" y="4419720"/>
            <a:chExt cx="2003400" cy="489960"/>
          </a:xfrm>
        </p:grpSpPr>
        <p:sp>
          <p:nvSpPr>
            <p:cNvPr id="1084" name="AutoShape 48"/>
            <p:cNvSpPr/>
            <p:nvPr/>
          </p:nvSpPr>
          <p:spPr>
            <a:xfrm>
              <a:off x="6262560" y="4572000"/>
              <a:ext cx="512640" cy="287280"/>
            </a:xfrm>
            <a:prstGeom prst="rightArrow">
              <a:avLst>
                <a:gd name="adj1" fmla="val 50000"/>
                <a:gd name="adj2" fmla="val 44612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49"/>
            <p:cNvSpPr/>
            <p:nvPr/>
          </p:nvSpPr>
          <p:spPr>
            <a:xfrm>
              <a:off x="6872040" y="4419720"/>
              <a:ext cx="1393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driv</a:t>
              </a:r>
              <a:r>
                <a:rPr b="1" lang="en-US" sz="2600" spc="-1" strike="noStrike">
                  <a:solidFill>
                    <a:srgbClr val="0066ff"/>
                  </a:solidFill>
                  <a:latin typeface="Comic Sans MS"/>
                  <a:ea typeface="PMingLiU"/>
                </a:rPr>
                <a:t>in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Line 50"/>
          <p:cNvSpPr/>
          <p:nvPr/>
        </p:nvSpPr>
        <p:spPr>
          <a:xfrm flipV="1">
            <a:off x="5958000" y="4571640"/>
            <a:ext cx="2286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51"/>
          <p:cNvSpPr/>
          <p:nvPr/>
        </p:nvSpPr>
        <p:spPr>
          <a:xfrm flipV="1">
            <a:off x="5653080" y="3809520"/>
            <a:ext cx="22860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52"/>
          <p:cNvSpPr/>
          <p:nvPr/>
        </p:nvSpPr>
        <p:spPr>
          <a:xfrm>
            <a:off x="5262480" y="5170320"/>
            <a:ext cx="293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PMingLiU"/>
              </a:rPr>
              <a:t>mov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53"/>
          <p:cNvGrpSpPr/>
          <p:nvPr/>
        </p:nvGrpSpPr>
        <p:grpSpPr>
          <a:xfrm>
            <a:off x="6262560" y="5170320"/>
            <a:ext cx="2004840" cy="885960"/>
            <a:chOff x="6262560" y="5170320"/>
            <a:chExt cx="2004840" cy="885960"/>
          </a:xfrm>
        </p:grpSpPr>
        <p:sp>
          <p:nvSpPr>
            <p:cNvPr id="1090" name="AutoShape 54"/>
            <p:cNvSpPr/>
            <p:nvPr/>
          </p:nvSpPr>
          <p:spPr>
            <a:xfrm>
              <a:off x="6262560" y="5257800"/>
              <a:ext cx="512640" cy="287280"/>
            </a:xfrm>
            <a:prstGeom prst="rightArrow">
              <a:avLst>
                <a:gd name="adj1" fmla="val 50000"/>
                <a:gd name="adj2" fmla="val 44612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55"/>
            <p:cNvSpPr/>
            <p:nvPr/>
          </p:nvSpPr>
          <p:spPr>
            <a:xfrm>
              <a:off x="6873840" y="5170320"/>
              <a:ext cx="13935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mov</a:t>
              </a:r>
              <a:r>
                <a:rPr b="1" lang="en-US" sz="2600" spc="-1" strike="noStrike">
                  <a:solidFill>
                    <a:srgbClr val="0066ff"/>
                  </a:solidFill>
                  <a:latin typeface="Comic Sans MS"/>
                  <a:ea typeface="PMingLiU"/>
                </a:rPr>
                <a:t>in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Line 56"/>
          <p:cNvSpPr/>
          <p:nvPr/>
        </p:nvSpPr>
        <p:spPr>
          <a:xfrm flipV="1">
            <a:off x="5958000" y="5257440"/>
            <a:ext cx="15228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57"/>
          <p:cNvSpPr/>
          <p:nvPr/>
        </p:nvSpPr>
        <p:spPr>
          <a:xfrm>
            <a:off x="685800" y="2286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omic Sans MS"/>
              </a:rPr>
              <a:t>Present continuous tense </a:t>
            </a:r>
            <a:r>
              <a:rPr b="1" lang="zh-CN" sz="3600" spc="-1" strike="noStrike">
                <a:solidFill>
                  <a:srgbClr val="ff3399"/>
                </a:solidFill>
                <a:latin typeface="Comic Sans MS"/>
              </a:rPr>
              <a:t>现在进行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58"/>
          <p:cNvSpPr/>
          <p:nvPr/>
        </p:nvSpPr>
        <p:spPr>
          <a:xfrm>
            <a:off x="1447920" y="2895480"/>
            <a:ext cx="1600200" cy="9471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Comic Sans MS"/>
                <a:ea typeface="PMingLiU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5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6"/>
          <p:cNvSpPr/>
          <p:nvPr/>
        </p:nvSpPr>
        <p:spPr>
          <a:xfrm>
            <a:off x="685800" y="10666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cc"/>
                </a:solidFill>
                <a:latin typeface="Monotype Sorts"/>
                <a:ea typeface="Monotype Sorts"/>
              </a:rPr>
              <a:t>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PMingLiU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以重读、“辅元辅”结构结尾的动词需要双写最后一个字母再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PMingLiU"/>
              </a:rPr>
              <a:t>-ing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Group 17"/>
          <p:cNvGrpSpPr/>
          <p:nvPr/>
        </p:nvGrpSpPr>
        <p:grpSpPr>
          <a:xfrm>
            <a:off x="1066680" y="2666880"/>
            <a:ext cx="7696080" cy="3733920"/>
            <a:chOff x="1066680" y="2666880"/>
            <a:chExt cx="7696080" cy="3733920"/>
          </a:xfrm>
        </p:grpSpPr>
        <p:sp>
          <p:nvSpPr>
            <p:cNvPr id="1097" name="AutoShape 18"/>
            <p:cNvSpPr/>
            <p:nvPr/>
          </p:nvSpPr>
          <p:spPr>
            <a:xfrm>
              <a:off x="1066680" y="2666880"/>
              <a:ext cx="7696080" cy="37339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19"/>
            <p:cNvSpPr/>
            <p:nvPr/>
          </p:nvSpPr>
          <p:spPr>
            <a:xfrm>
              <a:off x="2057400" y="2836800"/>
              <a:ext cx="990360" cy="88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sw</a:t>
              </a:r>
              <a:r>
                <a:rPr b="1" lang="en-US" sz="2600" spc="-1" strike="noStrike">
                  <a:solidFill>
                    <a:srgbClr val="009900"/>
                  </a:solidFill>
                  <a:latin typeface="Comic Sans MS"/>
                  <a:ea typeface="PMingLiU"/>
                </a:rPr>
                <a:t>i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Group 20"/>
          <p:cNvGrpSpPr/>
          <p:nvPr/>
        </p:nvGrpSpPr>
        <p:grpSpPr>
          <a:xfrm>
            <a:off x="3200400" y="2819520"/>
            <a:ext cx="762120" cy="489960"/>
            <a:chOff x="3200400" y="2819520"/>
            <a:chExt cx="762120" cy="489960"/>
          </a:xfrm>
        </p:grpSpPr>
        <p:sp>
          <p:nvSpPr>
            <p:cNvPr id="1100" name="AutoShape 21"/>
            <p:cNvSpPr/>
            <p:nvPr/>
          </p:nvSpPr>
          <p:spPr>
            <a:xfrm>
              <a:off x="3200400" y="2895840"/>
              <a:ext cx="264960" cy="366480"/>
            </a:xfrm>
            <a:prstGeom prst="plus">
              <a:avLst>
                <a:gd name="adj" fmla="val 39167"/>
              </a:avLst>
            </a:prstGeom>
            <a:solidFill>
              <a:srgbClr val="ff9933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Text Box 22"/>
            <p:cNvSpPr/>
            <p:nvPr/>
          </p:nvSpPr>
          <p:spPr>
            <a:xfrm>
              <a:off x="3581280" y="2819520"/>
              <a:ext cx="381240" cy="48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9900"/>
                  </a:solidFill>
                  <a:latin typeface="Comic Sans MS"/>
                  <a:ea typeface="PMingLiU"/>
                </a:rPr>
                <a:t>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Group 23"/>
          <p:cNvGrpSpPr/>
          <p:nvPr/>
        </p:nvGrpSpPr>
        <p:grpSpPr>
          <a:xfrm>
            <a:off x="4114800" y="2819520"/>
            <a:ext cx="3962520" cy="885960"/>
            <a:chOff x="4114800" y="2819520"/>
            <a:chExt cx="3962520" cy="885960"/>
          </a:xfrm>
        </p:grpSpPr>
        <p:sp>
          <p:nvSpPr>
            <p:cNvPr id="1103" name="Text Box 24"/>
            <p:cNvSpPr/>
            <p:nvPr/>
          </p:nvSpPr>
          <p:spPr>
            <a:xfrm>
              <a:off x="4495680" y="2819520"/>
              <a:ext cx="685800" cy="885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66ff"/>
                  </a:solidFill>
                  <a:latin typeface="Comic Sans MS"/>
                  <a:ea typeface="PMingLiU"/>
                </a:rPr>
                <a:t>in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AutoShape 25"/>
            <p:cNvSpPr/>
            <p:nvPr/>
          </p:nvSpPr>
          <p:spPr>
            <a:xfrm>
              <a:off x="5334120" y="2895840"/>
              <a:ext cx="512640" cy="288720"/>
            </a:xfrm>
            <a:prstGeom prst="rightArrow">
              <a:avLst>
                <a:gd name="adj1" fmla="val 50000"/>
                <a:gd name="adj2" fmla="val 4438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Text Box 26"/>
            <p:cNvSpPr/>
            <p:nvPr/>
          </p:nvSpPr>
          <p:spPr>
            <a:xfrm>
              <a:off x="5943600" y="2819520"/>
              <a:ext cx="2133720" cy="48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sw</a:t>
              </a:r>
              <a:r>
                <a:rPr b="1" lang="en-US" sz="2600" spc="-1" strike="noStrike">
                  <a:solidFill>
                    <a:srgbClr val="009900"/>
                  </a:solidFill>
                  <a:latin typeface="Comic Sans MS"/>
                  <a:ea typeface="PMingLiU"/>
                </a:rPr>
                <a:t>imm</a:t>
              </a:r>
              <a:r>
                <a:rPr b="1" lang="en-US" sz="2600" spc="-1" strike="noStrike">
                  <a:solidFill>
                    <a:srgbClr val="0066ff"/>
                  </a:solidFill>
                  <a:latin typeface="Comic Sans MS"/>
                  <a:ea typeface="PMingLiU"/>
                </a:rPr>
                <a:t>in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AutoShape 27"/>
            <p:cNvSpPr/>
            <p:nvPr/>
          </p:nvSpPr>
          <p:spPr>
            <a:xfrm>
              <a:off x="4114800" y="2895840"/>
              <a:ext cx="264960" cy="366480"/>
            </a:xfrm>
            <a:prstGeom prst="plus">
              <a:avLst>
                <a:gd name="adj" fmla="val 39167"/>
              </a:avLst>
            </a:prstGeom>
            <a:solidFill>
              <a:srgbClr val="ff9933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Group 28"/>
          <p:cNvGrpSpPr/>
          <p:nvPr/>
        </p:nvGrpSpPr>
        <p:grpSpPr>
          <a:xfrm>
            <a:off x="1600200" y="4343400"/>
            <a:ext cx="2932200" cy="489960"/>
            <a:chOff x="1600200" y="4343400"/>
            <a:chExt cx="2932200" cy="489960"/>
          </a:xfrm>
        </p:grpSpPr>
        <p:sp>
          <p:nvSpPr>
            <p:cNvPr id="1108" name="Text Box 29"/>
            <p:cNvSpPr/>
            <p:nvPr/>
          </p:nvSpPr>
          <p:spPr>
            <a:xfrm>
              <a:off x="1600200" y="4343400"/>
              <a:ext cx="2932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j</a:t>
              </a:r>
              <a:r>
                <a:rPr b="1" lang="en-US" sz="2600" spc="-1" strike="noStrike">
                  <a:solidFill>
                    <a:srgbClr val="009900"/>
                  </a:solidFill>
                  <a:latin typeface="Comic Sans MS"/>
                  <a:ea typeface="PMingLiU"/>
                </a:rPr>
                <a:t>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30"/>
            <p:cNvSpPr/>
            <p:nvPr/>
          </p:nvSpPr>
          <p:spPr>
            <a:xfrm>
              <a:off x="2514600" y="4495680"/>
              <a:ext cx="514440" cy="289080"/>
            </a:xfrm>
            <a:prstGeom prst="rightArrow">
              <a:avLst>
                <a:gd name="adj1" fmla="val 50000"/>
                <a:gd name="adj2" fmla="val 4448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Text Box 31"/>
          <p:cNvSpPr/>
          <p:nvPr/>
        </p:nvSpPr>
        <p:spPr>
          <a:xfrm>
            <a:off x="3200400" y="4343400"/>
            <a:ext cx="130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PMingLiU"/>
              </a:rPr>
              <a:t>j</a:t>
            </a:r>
            <a:r>
              <a:rPr b="1" lang="en-US" sz="2600" spc="-1" strike="noStrike">
                <a:solidFill>
                  <a:srgbClr val="009900"/>
                </a:solidFill>
                <a:latin typeface="Comic Sans MS"/>
                <a:ea typeface="PMingLiU"/>
              </a:rPr>
              <a:t>ogg</a:t>
            </a:r>
            <a:r>
              <a:rPr b="1" lang="en-US" sz="2600" spc="-1" strike="noStrike">
                <a:solidFill>
                  <a:srgbClr val="0066ff"/>
                </a:solidFill>
                <a:latin typeface="Comic Sans MS"/>
                <a:ea typeface="PMingLiU"/>
              </a:rPr>
              <a:t>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Group 32"/>
          <p:cNvGrpSpPr/>
          <p:nvPr/>
        </p:nvGrpSpPr>
        <p:grpSpPr>
          <a:xfrm>
            <a:off x="1600200" y="5029200"/>
            <a:ext cx="2932200" cy="489960"/>
            <a:chOff x="1600200" y="5029200"/>
            <a:chExt cx="2932200" cy="489960"/>
          </a:xfrm>
        </p:grpSpPr>
        <p:sp>
          <p:nvSpPr>
            <p:cNvPr id="1112" name="Text Box 33"/>
            <p:cNvSpPr/>
            <p:nvPr/>
          </p:nvSpPr>
          <p:spPr>
            <a:xfrm>
              <a:off x="1600200" y="5029200"/>
              <a:ext cx="2932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s</a:t>
              </a:r>
              <a:r>
                <a:rPr b="1" lang="en-US" sz="2600" spc="-1" strike="noStrike">
                  <a:solidFill>
                    <a:srgbClr val="009900"/>
                  </a:solidFill>
                  <a:latin typeface="Comic Sans MS"/>
                  <a:ea typeface="PMingLiU"/>
                </a:rPr>
                <a:t>i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AutoShape 34"/>
            <p:cNvSpPr/>
            <p:nvPr/>
          </p:nvSpPr>
          <p:spPr>
            <a:xfrm>
              <a:off x="2514600" y="5181480"/>
              <a:ext cx="514440" cy="289080"/>
            </a:xfrm>
            <a:prstGeom prst="rightArrow">
              <a:avLst>
                <a:gd name="adj1" fmla="val 50000"/>
                <a:gd name="adj2" fmla="val 4448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Text Box 35"/>
          <p:cNvSpPr/>
          <p:nvPr/>
        </p:nvSpPr>
        <p:spPr>
          <a:xfrm>
            <a:off x="3200400" y="5029200"/>
            <a:ext cx="130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PMingLiU"/>
              </a:rPr>
              <a:t>s</a:t>
            </a:r>
            <a:r>
              <a:rPr b="1" lang="en-US" sz="2600" spc="-1" strike="noStrike">
                <a:solidFill>
                  <a:srgbClr val="009900"/>
                </a:solidFill>
                <a:latin typeface="Comic Sans MS"/>
                <a:ea typeface="PMingLiU"/>
              </a:rPr>
              <a:t>itt</a:t>
            </a:r>
            <a:r>
              <a:rPr b="1" lang="en-US" sz="2600" spc="-1" strike="noStrike">
                <a:solidFill>
                  <a:srgbClr val="0066ff"/>
                </a:solidFill>
                <a:latin typeface="Comic Sans MS"/>
                <a:ea typeface="PMingLiU"/>
              </a:rPr>
              <a:t>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Group 36"/>
          <p:cNvGrpSpPr/>
          <p:nvPr/>
        </p:nvGrpSpPr>
        <p:grpSpPr>
          <a:xfrm>
            <a:off x="1600200" y="5715000"/>
            <a:ext cx="2932200" cy="489960"/>
            <a:chOff x="1600200" y="5715000"/>
            <a:chExt cx="2932200" cy="489960"/>
          </a:xfrm>
        </p:grpSpPr>
        <p:sp>
          <p:nvSpPr>
            <p:cNvPr id="1116" name="Text Box 37"/>
            <p:cNvSpPr/>
            <p:nvPr/>
          </p:nvSpPr>
          <p:spPr>
            <a:xfrm>
              <a:off x="1600200" y="5715000"/>
              <a:ext cx="2932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dr</a:t>
              </a:r>
              <a:r>
                <a:rPr b="1" lang="en-US" sz="2600" spc="-1" strike="noStrike">
                  <a:solidFill>
                    <a:srgbClr val="009900"/>
                  </a:solidFill>
                  <a:latin typeface="Comic Sans MS"/>
                  <a:ea typeface="PMingLiU"/>
                </a:rPr>
                <a:t>o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AutoShape 38"/>
            <p:cNvSpPr/>
            <p:nvPr/>
          </p:nvSpPr>
          <p:spPr>
            <a:xfrm>
              <a:off x="2514600" y="5867280"/>
              <a:ext cx="514440" cy="289080"/>
            </a:xfrm>
            <a:prstGeom prst="rightArrow">
              <a:avLst>
                <a:gd name="adj1" fmla="val 50000"/>
                <a:gd name="adj2" fmla="val 4448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8" name="Text Box 39"/>
          <p:cNvSpPr/>
          <p:nvPr/>
        </p:nvSpPr>
        <p:spPr>
          <a:xfrm>
            <a:off x="3200400" y="5715000"/>
            <a:ext cx="1523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PMingLiU"/>
              </a:rPr>
              <a:t>dr</a:t>
            </a:r>
            <a:r>
              <a:rPr b="1" lang="en-US" sz="2600" spc="-1" strike="noStrike">
                <a:solidFill>
                  <a:srgbClr val="009900"/>
                </a:solidFill>
                <a:latin typeface="Comic Sans MS"/>
                <a:ea typeface="PMingLiU"/>
              </a:rPr>
              <a:t>opp</a:t>
            </a:r>
            <a:r>
              <a:rPr b="1" lang="en-US" sz="2600" spc="-1" strike="noStrike">
                <a:solidFill>
                  <a:srgbClr val="0066ff"/>
                </a:solidFill>
                <a:latin typeface="Comic Sans MS"/>
                <a:ea typeface="PMingLiU"/>
              </a:rPr>
              <a:t>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9" name="Group 40"/>
          <p:cNvGrpSpPr/>
          <p:nvPr/>
        </p:nvGrpSpPr>
        <p:grpSpPr>
          <a:xfrm>
            <a:off x="5181480" y="4343400"/>
            <a:ext cx="2932200" cy="489960"/>
            <a:chOff x="5181480" y="4343400"/>
            <a:chExt cx="2932200" cy="489960"/>
          </a:xfrm>
        </p:grpSpPr>
        <p:sp>
          <p:nvSpPr>
            <p:cNvPr id="1120" name="Text Box 41"/>
            <p:cNvSpPr/>
            <p:nvPr/>
          </p:nvSpPr>
          <p:spPr>
            <a:xfrm>
              <a:off x="5181480" y="4343400"/>
              <a:ext cx="2932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r</a:t>
              </a:r>
              <a:r>
                <a:rPr b="1" lang="en-US" sz="2600" spc="-1" strike="noStrike">
                  <a:solidFill>
                    <a:srgbClr val="009900"/>
                  </a:solidFill>
                  <a:latin typeface="Comic Sans MS"/>
                  <a:ea typeface="PMingLiU"/>
                </a:rPr>
                <a:t>u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AutoShape 42"/>
            <p:cNvSpPr/>
            <p:nvPr/>
          </p:nvSpPr>
          <p:spPr>
            <a:xfrm>
              <a:off x="6019560" y="4495680"/>
              <a:ext cx="514440" cy="289080"/>
            </a:xfrm>
            <a:prstGeom prst="rightArrow">
              <a:avLst>
                <a:gd name="adj1" fmla="val 50000"/>
                <a:gd name="adj2" fmla="val 4448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Text Box 43"/>
          <p:cNvSpPr/>
          <p:nvPr/>
        </p:nvSpPr>
        <p:spPr>
          <a:xfrm>
            <a:off x="6705720" y="4343400"/>
            <a:ext cx="1303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PMingLiU"/>
              </a:rPr>
              <a:t>r</a:t>
            </a:r>
            <a:r>
              <a:rPr b="1" lang="en-US" sz="2600" spc="-1" strike="noStrike">
                <a:solidFill>
                  <a:srgbClr val="009900"/>
                </a:solidFill>
                <a:latin typeface="Comic Sans MS"/>
                <a:ea typeface="PMingLiU"/>
              </a:rPr>
              <a:t>unn</a:t>
            </a:r>
            <a:r>
              <a:rPr b="1" lang="en-US" sz="2600" spc="-1" strike="noStrike">
                <a:solidFill>
                  <a:srgbClr val="0066ff"/>
                </a:solidFill>
                <a:latin typeface="Comic Sans MS"/>
                <a:ea typeface="PMingLiU"/>
              </a:rPr>
              <a:t>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Group 44"/>
          <p:cNvGrpSpPr/>
          <p:nvPr/>
        </p:nvGrpSpPr>
        <p:grpSpPr>
          <a:xfrm>
            <a:off x="5181480" y="5029200"/>
            <a:ext cx="2932200" cy="489960"/>
            <a:chOff x="5181480" y="5029200"/>
            <a:chExt cx="2932200" cy="489960"/>
          </a:xfrm>
        </p:grpSpPr>
        <p:sp>
          <p:nvSpPr>
            <p:cNvPr id="1124" name="Text Box 45"/>
            <p:cNvSpPr/>
            <p:nvPr/>
          </p:nvSpPr>
          <p:spPr>
            <a:xfrm>
              <a:off x="5181480" y="5029200"/>
              <a:ext cx="2932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g</a:t>
              </a:r>
              <a:r>
                <a:rPr b="1" lang="en-US" sz="2600" spc="-1" strike="noStrike">
                  <a:solidFill>
                    <a:srgbClr val="009900"/>
                  </a:solidFill>
                  <a:latin typeface="Comic Sans MS"/>
                  <a:ea typeface="PMingLiU"/>
                </a:rPr>
                <a:t>e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AutoShape 46"/>
            <p:cNvSpPr/>
            <p:nvPr/>
          </p:nvSpPr>
          <p:spPr>
            <a:xfrm>
              <a:off x="6019560" y="5105520"/>
              <a:ext cx="514440" cy="288720"/>
            </a:xfrm>
            <a:prstGeom prst="rightArrow">
              <a:avLst>
                <a:gd name="adj1" fmla="val 50000"/>
                <a:gd name="adj2" fmla="val 4454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Text Box 47"/>
          <p:cNvSpPr/>
          <p:nvPr/>
        </p:nvSpPr>
        <p:spPr>
          <a:xfrm>
            <a:off x="6705720" y="4952880"/>
            <a:ext cx="130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Comic Sans MS"/>
                <a:ea typeface="PMingLiU"/>
              </a:rPr>
              <a:t>gett</a:t>
            </a:r>
            <a:r>
              <a:rPr b="1" lang="en-US" sz="2600" spc="-1" strike="noStrike">
                <a:solidFill>
                  <a:srgbClr val="0066ff"/>
                </a:solidFill>
                <a:latin typeface="Comic Sans MS"/>
                <a:ea typeface="PMingLiU"/>
              </a:rPr>
              <a:t>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Group 48"/>
          <p:cNvGrpSpPr/>
          <p:nvPr/>
        </p:nvGrpSpPr>
        <p:grpSpPr>
          <a:xfrm>
            <a:off x="5181480" y="5715000"/>
            <a:ext cx="2932200" cy="489960"/>
            <a:chOff x="5181480" y="5715000"/>
            <a:chExt cx="2932200" cy="489960"/>
          </a:xfrm>
        </p:grpSpPr>
        <p:sp>
          <p:nvSpPr>
            <p:cNvPr id="1128" name="Text Box 49"/>
            <p:cNvSpPr/>
            <p:nvPr/>
          </p:nvSpPr>
          <p:spPr>
            <a:xfrm>
              <a:off x="5181480" y="5715000"/>
              <a:ext cx="2932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  <a:ea typeface="PMingLiU"/>
                </a:rPr>
                <a:t>p</a:t>
              </a:r>
              <a:r>
                <a:rPr b="1" lang="en-US" sz="2600" spc="-1" strike="noStrike">
                  <a:solidFill>
                    <a:srgbClr val="009900"/>
                  </a:solidFill>
                  <a:latin typeface="Comic Sans MS"/>
                  <a:ea typeface="PMingLiU"/>
                </a:rPr>
                <a:t>u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AutoShape 50"/>
            <p:cNvSpPr/>
            <p:nvPr/>
          </p:nvSpPr>
          <p:spPr>
            <a:xfrm>
              <a:off x="6019560" y="5791320"/>
              <a:ext cx="514440" cy="288720"/>
            </a:xfrm>
            <a:prstGeom prst="rightArrow">
              <a:avLst>
                <a:gd name="adj1" fmla="val 50000"/>
                <a:gd name="adj2" fmla="val 4454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Text Box 51"/>
          <p:cNvSpPr/>
          <p:nvPr/>
        </p:nvSpPr>
        <p:spPr>
          <a:xfrm>
            <a:off x="6705720" y="5638680"/>
            <a:ext cx="1303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PMingLiU"/>
              </a:rPr>
              <a:t>p</a:t>
            </a:r>
            <a:r>
              <a:rPr b="1" lang="en-US" sz="2600" spc="-1" strike="noStrike">
                <a:solidFill>
                  <a:srgbClr val="009900"/>
                </a:solidFill>
                <a:latin typeface="Comic Sans MS"/>
                <a:ea typeface="PMingLiU"/>
              </a:rPr>
              <a:t>utt</a:t>
            </a:r>
            <a:r>
              <a:rPr b="1" lang="en-US" sz="2600" spc="-1" strike="noStrike">
                <a:solidFill>
                  <a:srgbClr val="0066ff"/>
                </a:solidFill>
                <a:latin typeface="Comic Sans MS"/>
                <a:ea typeface="PMingLiU"/>
              </a:rPr>
              <a:t>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52"/>
          <p:cNvSpPr/>
          <p:nvPr/>
        </p:nvSpPr>
        <p:spPr>
          <a:xfrm>
            <a:off x="685800" y="2286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omic Sans MS"/>
              </a:rPr>
              <a:t>Present continuous tense </a:t>
            </a:r>
            <a:r>
              <a:rPr b="1" lang="zh-CN" sz="3600" spc="-1" strike="noStrike">
                <a:solidFill>
                  <a:srgbClr val="ff3399"/>
                </a:solidFill>
                <a:latin typeface="Comic Sans MS"/>
              </a:rPr>
              <a:t>现在进行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53"/>
          <p:cNvSpPr/>
          <p:nvPr/>
        </p:nvSpPr>
        <p:spPr>
          <a:xfrm>
            <a:off x="1447920" y="3581280"/>
            <a:ext cx="1600200" cy="9471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Comic Sans MS"/>
                <a:ea typeface="PMingLiU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7T10:56:09Z</dcterms:created>
  <dc:creator>王松琴</dc:creator>
  <dc:description/>
  <cp:keywords/>
  <dc:language>en-US</dc:language>
  <cp:lastModifiedBy>AutoBVT</cp:lastModifiedBy>
  <dcterms:modified xsi:type="dcterms:W3CDTF">2016-11-11T12:02:06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